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11314113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824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128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556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824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45128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9372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0515600" y="228600"/>
            <a:ext cx="550800" cy="6094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228600" y="228600"/>
            <a:ext cx="762120" cy="609480"/>
            <a:chOff x="228600" y="228600"/>
            <a:chExt cx="762120" cy="60948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304920" y="228600"/>
              <a:ext cx="571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 txBox="1"/>
            <p:nvPr/>
          </p:nvSpPr>
          <p:spPr>
            <a:xfrm>
              <a:off x="228600" y="304920"/>
              <a:ext cx="762120" cy="380880"/>
            </a:xfrm>
            <a:prstGeom prst="rect">
              <a:avLst/>
            </a:prstGeom>
          </p:spPr>
          <p:txBody>
            <a:bodyPr wrap="none" lIns="93600" rIns="936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80"/>
                  </a:solidFill>
                  <a:latin typeface="Arial Black"/>
                </a:rPr>
                <a:t>MADS</a:t>
              </a:r>
              <a:endParaRPr b="0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4237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979640" indent="-2826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2546280" indent="-282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2546280" indent="-282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2546280" indent="-282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0040" y="988920"/>
            <a:ext cx="10821960" cy="67042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PRESENTATION DE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fr-FR" sz="44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CIENCE DU </a:t>
            </a:r>
            <a:r>
              <a:rPr b="0" lang="fr-FR" sz="44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G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rincipes d’une démarche d’évaluation des ri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omic Sans MS"/>
              </a:rPr>
              <a:t>29 Mars 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omic Sans MS"/>
              </a:rPr>
              <a:t>- Université Jules VERNE / Faculté de Médecine d’Amiens -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omic Sans MS"/>
              </a:rPr>
              <a:t>Michel LESBATS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UT Bordeaux I Département HSE 33405 Talence (Fr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él. : 05.56.84.58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-Mail : michel.lesbats@iut.u-bordeaux1.fr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4827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 Coordination des secours médicaux en situation d’excep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tas … d'obligations !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8" name=""/>
          <p:cNvSpPr/>
          <p:nvPr/>
        </p:nvSpPr>
        <p:spPr>
          <a:xfrm rot="20640000">
            <a:off x="1936080" y="3429000"/>
            <a:ext cx="3185640" cy="5191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9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tude de da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780000">
            <a:off x="6924600" y="5042880"/>
            <a:ext cx="3693960" cy="1385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9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valuation des risques en milieu du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0220000">
            <a:off x="5264280" y="3276360"/>
            <a:ext cx="1813320" cy="532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9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co-bi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1360000">
            <a:off x="2133360" y="4191120"/>
            <a:ext cx="2502000" cy="9457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9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tude d'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80000">
            <a:off x="3095280" y="5407560"/>
            <a:ext cx="4038480" cy="1811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9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valuation des risques des substances chim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57400">
            <a:off x="3531960" y="2514960"/>
            <a:ext cx="3029760" cy="532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9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Gestion de c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060000">
            <a:off x="5677200" y="3657600"/>
            <a:ext cx="3594960" cy="532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9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tudes des déch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640000">
            <a:off x="2259720" y="3090240"/>
            <a:ext cx="320652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Malveillance inter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360000">
            <a:off x="2927520" y="5156280"/>
            <a:ext cx="470448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Sécurité des installations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220000">
            <a:off x="7494480" y="2283840"/>
            <a:ext cx="206784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Ergonomi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1360000">
            <a:off x="5994720" y="4390560"/>
            <a:ext cx="324900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Conditions de trava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480000">
            <a:off x="6260040" y="3321360"/>
            <a:ext cx="420768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Hygiène et Santé publiqu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200000">
            <a:off x="1231200" y="6123600"/>
            <a:ext cx="281340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Génie sanitai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760000">
            <a:off x="4238280" y="6506640"/>
            <a:ext cx="321408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Fiabilité huma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96280" y="1295280"/>
            <a:ext cx="341964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Ecologie appliqué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1360000">
            <a:off x="575640" y="2365200"/>
            <a:ext cx="532800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Hygiène &amp; Sécurité environn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360000">
            <a:off x="3569040" y="1782720"/>
            <a:ext cx="471528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Sûreté de fonctionn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120000">
            <a:off x="2087640" y="3848400"/>
            <a:ext cx="339696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Sécurité des bien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880000">
            <a:off x="-36000" y="4110480"/>
            <a:ext cx="306000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Risques natur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300000">
            <a:off x="7484400" y="5543640"/>
            <a:ext cx="3363480" cy="516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Sécurité du trava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500000">
            <a:off x="4622400" y="4134960"/>
            <a:ext cx="209556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9b6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Etude de si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tas … de techniques !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7680" y="1197000"/>
            <a:ext cx="10820520" cy="70707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0640000">
            <a:off x="2953440" y="2655360"/>
            <a:ext cx="477144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Protection de l'environnem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360000">
            <a:off x="3460680" y="6665760"/>
            <a:ext cx="403704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Sécurité des installations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1120000">
            <a:off x="3754440" y="3637080"/>
            <a:ext cx="2901600" cy="4255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Hygiène industriel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00000">
            <a:off x="2236680" y="6049800"/>
            <a:ext cx="222048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Risk mana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220000">
            <a:off x="322200" y="4470840"/>
            <a:ext cx="179820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Ergonom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1360000">
            <a:off x="3840480" y="4615920"/>
            <a:ext cx="324900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Conditions de trava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480000">
            <a:off x="8143560" y="4834080"/>
            <a:ext cx="272952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Sécurité incend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200000">
            <a:off x="1017000" y="2021040"/>
            <a:ext cx="3143160" cy="4255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Sociologie du travai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5524560"/>
            <a:ext cx="2928960" cy="4255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nfirmière du travai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1360000">
            <a:off x="6622200" y="3848040"/>
            <a:ext cx="312876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Gestion des déch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1120000">
            <a:off x="6668280" y="2638440"/>
            <a:ext cx="311040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Médecine du trava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120000">
            <a:off x="7780680" y="5818320"/>
            <a:ext cx="2965680" cy="4255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Sécurité industriel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760000">
            <a:off x="611640" y="5066280"/>
            <a:ext cx="3244680" cy="4255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Psychologue du travai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00000">
            <a:off x="2356920" y="4234680"/>
            <a:ext cx="1290600" cy="45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Qualité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85400" y="24732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tas … de services ... de métiers !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" name=""/>
          <p:cNvSpPr/>
          <p:nvPr/>
        </p:nvSpPr>
        <p:spPr>
          <a:xfrm rot="853800">
            <a:off x="1532520" y="3522240"/>
            <a:ext cx="1179000" cy="4597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ûre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10600" y="4457880"/>
            <a:ext cx="522000" cy="8254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0a4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H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911160"/>
            <a:ext cx="10848960" cy="3957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0960" y="4437000"/>
            <a:ext cx="10858680" cy="356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03440" y="4362480"/>
            <a:ext cx="286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80880" y="4362480"/>
            <a:ext cx="286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9800" y="3676680"/>
            <a:ext cx="2363760" cy="10350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7d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66"/>
                </a:solidFill>
                <a:latin typeface="Comic Sans MS"/>
              </a:rPr>
              <a:t>Science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406600"/>
            <a:ext cx="2859120" cy="8762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dd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300" spc="-1" strike="noStrike">
                <a:solidFill>
                  <a:srgbClr val="003399"/>
                </a:solidFill>
                <a:latin typeface="Comic Sans MS"/>
              </a:rPr>
              <a:t>« Epistémogène 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1066680"/>
            <a:ext cx="8169120" cy="9334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cd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Inintelligibilité, perte de maîtrise, angoisse, 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5105520"/>
            <a:ext cx="2859120" cy="9651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dd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300" spc="-1" strike="noStrike">
                <a:solidFill>
                  <a:srgbClr val="000000"/>
                </a:solidFill>
                <a:latin typeface="Comic Sans MS"/>
              </a:rPr>
              <a:t>Savoi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6553080"/>
            <a:ext cx="8169120" cy="9334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dd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Intelligibilité, maîtrise, confiance, 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6095880"/>
            <a:ext cx="590400" cy="454320"/>
          </a:xfrm>
          <a:custGeom>
            <a:avLst/>
            <a:gdLst/>
            <a:ahLst/>
            <a:rect l="l" t="t" r="r" b="b"/>
            <a:pathLst>
              <a:path w="372" h="286">
                <a:moveTo>
                  <a:pt x="178" y="285"/>
                </a:moveTo>
                <a:lnTo>
                  <a:pt x="0" y="0"/>
                </a:lnTo>
                <a:lnTo>
                  <a:pt x="371" y="0"/>
                </a:lnTo>
                <a:lnTo>
                  <a:pt x="178" y="28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9440" y="4362480"/>
            <a:ext cx="286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657600"/>
            <a:ext cx="2362320" cy="10350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dd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66"/>
                </a:solidFill>
                <a:latin typeface="Comic Sans MS"/>
              </a:rPr>
              <a:t>Technique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08760" y="2406600"/>
            <a:ext cx="2860560" cy="8762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f5ed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300" spc="-1" strike="noStrike">
                <a:solidFill>
                  <a:srgbClr val="003399"/>
                </a:solidFill>
                <a:latin typeface="Comic Sans MS"/>
              </a:rPr>
              <a:t>« Technogène 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08760" y="5105520"/>
            <a:ext cx="2860560" cy="9651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4c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300" spc="-1" strike="noStrike">
                <a:solidFill>
                  <a:srgbClr val="000000"/>
                </a:solidFill>
                <a:latin typeface="Comic Sans MS"/>
              </a:rPr>
              <a:t>Pouvoi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886200"/>
            <a:ext cx="48096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183680" y="3886200"/>
            <a:ext cx="48132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05520" y="3505320"/>
            <a:ext cx="1279440" cy="1307880"/>
            <a:chOff x="5105520" y="3505320"/>
            <a:chExt cx="1279440" cy="1307880"/>
          </a:xfrm>
        </p:grpSpPr>
        <p:sp>
          <p:nvSpPr>
            <p:cNvPr id="166" name=""/>
            <p:cNvSpPr/>
            <p:nvPr/>
          </p:nvSpPr>
          <p:spPr>
            <a:xfrm>
              <a:off x="5105520" y="3505320"/>
              <a:ext cx="1279440" cy="1307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367320" y="4014360"/>
              <a:ext cx="10800" cy="28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32160" y="3974760"/>
              <a:ext cx="10800" cy="290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(s) - Technique(s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cxnSp>
        <p:nvCxnSpPr>
          <p:cNvPr id="170" name=""/>
          <p:cNvCxnSpPr>
            <a:stCxn id="157" idx="1"/>
            <a:endCxn id="163" idx="2"/>
          </p:cNvCxnSpPr>
          <p:nvPr/>
        </p:nvCxnSpPr>
        <p:spPr>
          <a:xfrm rot="10800000">
            <a:off x="850320" y="4485600"/>
            <a:ext cx="749880" cy="253440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1" name=""/>
          <p:cNvCxnSpPr>
            <a:stCxn id="163" idx="0"/>
            <a:endCxn id="155" idx="1"/>
          </p:cNvCxnSpPr>
          <p:nvPr/>
        </p:nvCxnSpPr>
        <p:spPr>
          <a:xfrm flipH="1" flipV="1" rot="5400000">
            <a:off x="48960" y="2334600"/>
            <a:ext cx="2353320" cy="74988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2" name=""/>
          <p:cNvCxnSpPr>
            <a:stCxn id="155" idx="3"/>
            <a:endCxn id="164" idx="0"/>
          </p:cNvCxnSpPr>
          <p:nvPr/>
        </p:nvCxnSpPr>
        <p:spPr>
          <a:xfrm>
            <a:off x="9769320" y="1533240"/>
            <a:ext cx="656640" cy="235332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3" name=""/>
          <p:cNvCxnSpPr>
            <a:stCxn id="164" idx="2"/>
            <a:endCxn id="157" idx="3"/>
          </p:cNvCxnSpPr>
          <p:nvPr/>
        </p:nvCxnSpPr>
        <p:spPr>
          <a:xfrm rot="5400000">
            <a:off x="8829720" y="5425200"/>
            <a:ext cx="2534400" cy="65664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8048520" y="6075360"/>
            <a:ext cx="590760" cy="453960"/>
          </a:xfrm>
          <a:custGeom>
            <a:avLst/>
            <a:gdLst/>
            <a:ahLst/>
            <a:rect l="l" t="t" r="r" b="b"/>
            <a:pathLst>
              <a:path w="372" h="286">
                <a:moveTo>
                  <a:pt x="178" y="285"/>
                </a:moveTo>
                <a:lnTo>
                  <a:pt x="0" y="0"/>
                </a:lnTo>
                <a:lnTo>
                  <a:pt x="371" y="0"/>
                </a:lnTo>
                <a:lnTo>
                  <a:pt x="178" y="28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7833800">
            <a:off x="2838240" y="2037960"/>
            <a:ext cx="590760" cy="453960"/>
          </a:xfrm>
          <a:custGeom>
            <a:avLst/>
            <a:gdLst/>
            <a:ahLst/>
            <a:rect l="l" t="t" r="r" b="b"/>
            <a:pathLst>
              <a:path w="372" h="286">
                <a:moveTo>
                  <a:pt x="178" y="285"/>
                </a:moveTo>
                <a:lnTo>
                  <a:pt x="0" y="0"/>
                </a:lnTo>
                <a:lnTo>
                  <a:pt x="371" y="0"/>
                </a:lnTo>
                <a:lnTo>
                  <a:pt x="178" y="28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7833800">
            <a:off x="8115120" y="2037960"/>
            <a:ext cx="590760" cy="453960"/>
          </a:xfrm>
          <a:custGeom>
            <a:avLst/>
            <a:gdLst/>
            <a:ahLst/>
            <a:rect l="l" t="t" r="r" b="b"/>
            <a:pathLst>
              <a:path w="372" h="286">
                <a:moveTo>
                  <a:pt x="178" y="285"/>
                </a:moveTo>
                <a:lnTo>
                  <a:pt x="0" y="0"/>
                </a:lnTo>
                <a:lnTo>
                  <a:pt x="371" y="0"/>
                </a:lnTo>
                <a:lnTo>
                  <a:pt x="178" y="28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990720"/>
            <a:ext cx="10820520" cy="6723000"/>
          </a:xfrm>
          <a:custGeom>
            <a:avLst/>
            <a:gdLst/>
            <a:ahLst/>
            <a:rect l="l" t="t" r="r" b="b"/>
            <a:pathLst>
              <a:path w="6769" h="3947">
                <a:moveTo>
                  <a:pt x="0" y="0"/>
                </a:moveTo>
                <a:lnTo>
                  <a:pt x="6768" y="0"/>
                </a:lnTo>
                <a:lnTo>
                  <a:pt x="6768" y="3946"/>
                </a:lnTo>
                <a:lnTo>
                  <a:pt x="0" y="394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cap="rnd" w="12600">
            <a:solidFill>
              <a:srgbClr val="7f7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81960" y="5692680"/>
            <a:ext cx="4994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5400"/>
                <a:tab algn="l" pos="2530440"/>
                <a:tab algn="l" pos="3795840"/>
                <a:tab algn="l" pos="5060880"/>
                <a:tab algn="l" pos="6326280"/>
                <a:tab algn="l" pos="7591320"/>
                <a:tab algn="l" pos="8856720"/>
                <a:tab algn="l" pos="1012176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Comic Sans MS"/>
              </a:rPr>
              <a:t>PAUL VALERY : « Cahiers 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24320" y="2624040"/>
            <a:ext cx="80809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... mise au net, ordre, classification pu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accroissement d’organisation de consc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t de connexions ... chercher dans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nsemble la partie qui peut expr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tout l’ensemb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-défini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047600"/>
            <a:ext cx="10736280" cy="17622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d7d7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3399"/>
                </a:solidFill>
                <a:latin typeface="Comic Sans MS"/>
              </a:rPr>
              <a:t>Relations logiques qui gouvernent notre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3399"/>
                </a:solidFill>
                <a:latin typeface="Comic Sans MS"/>
              </a:rPr>
              <a:t>des choses et du monde sans que nous en ay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3399"/>
                </a:solidFill>
                <a:latin typeface="Comic Sans MS"/>
              </a:rPr>
              <a:t>con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5320" y="2481120"/>
            <a:ext cx="30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ece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adigmes - défini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895480"/>
            <a:ext cx="10820520" cy="487692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ebefe"/>
              </a:gs>
              <a:gs pos="100000">
                <a:srgbClr val="7f7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La connaissanc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fr-FR" sz="3600" spc="-1" strike="noStrike">
                <a:solidFill>
                  <a:srgbClr val="cc3300"/>
                </a:solidFill>
                <a:latin typeface="Comic Sans MS"/>
              </a:rPr>
              <a:t>sépare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distingue, disj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fr-FR" sz="3600" spc="-1" strike="noStrike">
                <a:solidFill>
                  <a:srgbClr val="cc3300"/>
                </a:solidFill>
                <a:latin typeface="Comic Sans MS"/>
              </a:rPr>
              <a:t>unit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associe, identif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fr-FR" sz="3600" spc="-1" strike="noStrike">
                <a:solidFill>
                  <a:srgbClr val="cc3300"/>
                </a:solidFill>
                <a:latin typeface="Comic Sans MS"/>
              </a:rPr>
              <a:t>hiérarchise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le principal, le second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fr-FR" sz="3600" spc="-1" strike="noStrike">
                <a:solidFill>
                  <a:srgbClr val="cc3300"/>
                </a:solidFill>
                <a:latin typeface="Comic Sans MS"/>
              </a:rPr>
              <a:t>centralise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… en fonction d’un noyau de            fonctions maîtr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560" y="3040200"/>
            <a:ext cx="588960" cy="453960"/>
          </a:xfrm>
          <a:custGeom>
            <a:avLst/>
            <a:gdLst/>
            <a:ahLst/>
            <a:rect l="l" t="t" r="r" b="b"/>
            <a:pathLst>
              <a:path w="371" h="286">
                <a:moveTo>
                  <a:pt x="178" y="285"/>
                </a:moveTo>
                <a:lnTo>
                  <a:pt x="0" y="0"/>
                </a:lnTo>
                <a:lnTo>
                  <a:pt x="370" y="0"/>
                </a:lnTo>
                <a:lnTo>
                  <a:pt x="178" y="28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536840"/>
            <a:ext cx="9039240" cy="1409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4c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hamp d’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Comic Sans MS"/>
              </a:rPr>
              <a:t>Problé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581280"/>
            <a:ext cx="9039240" cy="1409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4c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roduction, organisation de la con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Comic Sans MS"/>
              </a:rPr>
              <a:t>Méthod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560" y="5173560"/>
            <a:ext cx="588960" cy="453960"/>
          </a:xfrm>
          <a:custGeom>
            <a:avLst/>
            <a:gdLst/>
            <a:ahLst/>
            <a:rect l="l" t="t" r="r" b="b"/>
            <a:pathLst>
              <a:path w="371" h="286">
                <a:moveTo>
                  <a:pt x="178" y="285"/>
                </a:moveTo>
                <a:lnTo>
                  <a:pt x="0" y="0"/>
                </a:lnTo>
                <a:lnTo>
                  <a:pt x="370" y="0"/>
                </a:lnTo>
                <a:lnTo>
                  <a:pt x="178" y="28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715000"/>
            <a:ext cx="9039240" cy="1409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e4c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hoix, adaptation, é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Comic Sans MS"/>
              </a:rPr>
              <a:t>Méthodes et out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(s) - Technique(s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990720"/>
            <a:ext cx="10820520" cy="30477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191120"/>
            <a:ext cx="10820520" cy="35812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001960"/>
            <a:ext cx="2627280" cy="1054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2520" y="5454720"/>
            <a:ext cx="2627280" cy="1054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Méthod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81400" y="1371600"/>
            <a:ext cx="7539120" cy="20052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8b4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480" rIns="114480" tIns="57240" bIns="57240" anchor="t">
            <a:spAutoFit/>
          </a:bodyPr>
          <a:p>
            <a:pPr marL="233280" indent="-23328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nsemble des problèmes que pose un domaine particulier de la connaiss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Une certaine façon de poser des problèmes propres à une notion ou à un domaine de connaiss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Une problématique se définit par la</a:t>
            </a:r>
            <a:r>
              <a:rPr b="1" lang="fr-FR" sz="2000" spc="-1" strike="noStrike">
                <a:solidFill>
                  <a:srgbClr val="cc3300"/>
                </a:solidFill>
                <a:latin typeface="Comic Sans MS"/>
              </a:rPr>
              <a:t> limite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idéologique dans laquelle elle est produite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81400" y="4565520"/>
            <a:ext cx="7531200" cy="28321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600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Réflexion qui a pour objet d'examiner la </a:t>
            </a:r>
            <a:r>
              <a:rPr b="1" lang="fr-FR" sz="2100" spc="-1" strike="noStrike">
                <a:solidFill>
                  <a:srgbClr val="cc3300"/>
                </a:solidFill>
                <a:latin typeface="Comic Sans MS"/>
              </a:rPr>
              <a:t>nature</a:t>
            </a: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1" lang="fr-FR" sz="2100" spc="-1" strike="noStrike">
                <a:solidFill>
                  <a:srgbClr val="cc3300"/>
                </a:solidFill>
                <a:latin typeface="Comic Sans MS"/>
              </a:rPr>
              <a:t> valeur</a:t>
            </a: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 et le </a:t>
            </a:r>
            <a:r>
              <a:rPr b="1" lang="fr-FR" sz="2100" spc="-1" strike="noStrike">
                <a:solidFill>
                  <a:srgbClr val="cc3300"/>
                </a:solidFill>
                <a:latin typeface="Comic Sans MS"/>
              </a:rPr>
              <a:t>choix </a:t>
            </a: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des matériaux avec lesquel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nous pouvons construire notre connaissan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en vue de déterminer à quels usa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ls sont propres ou impropr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 du danger : vocabulair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990720"/>
            <a:ext cx="10820520" cy="32763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343400"/>
            <a:ext cx="10820520" cy="3429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520" y="2100240"/>
            <a:ext cx="2649600" cy="1058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Méth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520" y="5530680"/>
            <a:ext cx="2649600" cy="1054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Ou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1400" y="1212840"/>
            <a:ext cx="7593120" cy="28321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600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Programme réglant d'avance une sui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d'opérations à accomplir et signalant certai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errements à éviter, en vue d'atteind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un résultat déterminé</a:t>
            </a: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81400" y="4641840"/>
            <a:ext cx="7593120" cy="28321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600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Procédé technique de calcul ou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d'expérimentation utilisé pour la mise en oeuv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des suites d'opérations d'une méthod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 du danger : vocabulair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93024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68480" y="5106960"/>
            <a:ext cx="416520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…</a:t>
            </a: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un peu ringard…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…</a:t>
            </a: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trop sûr de soi…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…</a:t>
            </a: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pas toujour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efficace…</a:t>
            </a:r>
            <a:r>
              <a:rPr b="1" lang="fr-FR" sz="41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15120" y="7164360"/>
            <a:ext cx="3459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6520" y="1058760"/>
            <a:ext cx="27979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Méthod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88240" y="2359080"/>
            <a:ext cx="2985840" cy="177624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4c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Analytiqu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1440" y="2359080"/>
            <a:ext cx="2971800" cy="177624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Systémiqu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6240" y="5111640"/>
            <a:ext cx="362268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…</a:t>
            </a: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trop "mode"…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…</a:t>
            </a: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doit faire se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lang="fr-FR" sz="3300" spc="-1" strike="noStrike">
                <a:solidFill>
                  <a:srgbClr val="cc3300"/>
                </a:solidFill>
                <a:latin typeface="Comic Sans MS"/>
              </a:rPr>
              <a:t>preuves</a:t>
            </a:r>
            <a:r>
              <a:rPr b="1" lang="fr-FR" sz="3700" spc="-1" strike="noStrike">
                <a:solidFill>
                  <a:srgbClr val="cc3300"/>
                </a:solidFill>
                <a:latin typeface="Comic Sans MS"/>
              </a:rPr>
              <a:t>…</a:t>
            </a:r>
            <a:r>
              <a:rPr b="1" i="1" lang="fr-FR" sz="3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00160" y="6440400"/>
            <a:ext cx="3459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éthode(s) scientifique(s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90720"/>
            <a:ext cx="10820520" cy="67053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omic Sans MS"/>
              </a:rPr>
              <a:t>Proposée par le groupe </a:t>
            </a:r>
            <a:r>
              <a:rPr b="1" lang="fr-FR" sz="4800" spc="-1" strike="noStrike">
                <a:solidFill>
                  <a:srgbClr val="cc3300"/>
                </a:solidFill>
                <a:latin typeface="Comic Sans MS"/>
              </a:rPr>
              <a:t>MA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M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éthod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d’ 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naly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des  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ysfonctionn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dans les 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ystè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600" y="888840"/>
            <a:ext cx="10655280" cy="61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e MADS : sigl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3429000"/>
            <a:ext cx="305892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Complex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3429000"/>
            <a:ext cx="305892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Simplic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29840" y="3916440"/>
            <a:ext cx="114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t/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51840" y="1576440"/>
            <a:ext cx="3975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Paradigme(s)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72000" y="6202440"/>
            <a:ext cx="4690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... ça vient de (re)sortir !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(s) paradigme(s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5867280"/>
            <a:ext cx="10820520" cy="18957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4480" y="6334200"/>
            <a:ext cx="3435480" cy="534960"/>
          </a:xfrm>
          <a:custGeom>
            <a:avLst/>
            <a:gdLst/>
            <a:ahLst/>
            <a:rect l="l" t="t" r="r" b="b"/>
            <a:pathLst>
              <a:path w="2136" h="337">
                <a:moveTo>
                  <a:pt x="0" y="0"/>
                </a:moveTo>
                <a:lnTo>
                  <a:pt x="2135" y="0"/>
                </a:lnTo>
                <a:lnTo>
                  <a:pt x="2135" y="336"/>
                </a:lnTo>
                <a:lnTo>
                  <a:pt x="0" y="3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4480" y="7176960"/>
            <a:ext cx="3435480" cy="519120"/>
          </a:xfrm>
          <a:custGeom>
            <a:avLst/>
            <a:gdLst/>
            <a:ahLst/>
            <a:rect l="l" t="t" r="r" b="b"/>
            <a:pathLst>
              <a:path w="2136" h="327">
                <a:moveTo>
                  <a:pt x="0" y="0"/>
                </a:moveTo>
                <a:lnTo>
                  <a:pt x="2135" y="0"/>
                </a:lnTo>
                <a:lnTo>
                  <a:pt x="2135" y="326"/>
                </a:lnTo>
                <a:lnTo>
                  <a:pt x="0" y="32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36760" y="6912000"/>
            <a:ext cx="208080" cy="20628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64" y="129"/>
                </a:moveTo>
                <a:lnTo>
                  <a:pt x="128" y="0"/>
                </a:lnTo>
                <a:lnTo>
                  <a:pt x="0" y="0"/>
                </a:lnTo>
                <a:lnTo>
                  <a:pt x="64" y="12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68400"/>
            <a:ext cx="10820520" cy="47466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9280" y="3209760"/>
            <a:ext cx="208080" cy="241560"/>
          </a:xfrm>
          <a:custGeom>
            <a:avLst/>
            <a:gdLst/>
            <a:ahLst/>
            <a:rect l="l" t="t" r="r" b="b"/>
            <a:pathLst>
              <a:path w="129" h="131">
                <a:moveTo>
                  <a:pt x="64" y="130"/>
                </a:moveTo>
                <a:lnTo>
                  <a:pt x="128" y="0"/>
                </a:lnTo>
                <a:lnTo>
                  <a:pt x="0" y="0"/>
                </a:lnTo>
                <a:lnTo>
                  <a:pt x="64" y="1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22320" y="1852560"/>
            <a:ext cx="3435120" cy="2036520"/>
            <a:chOff x="922320" y="1852560"/>
            <a:chExt cx="3435120" cy="2036520"/>
          </a:xfrm>
        </p:grpSpPr>
        <p:sp>
          <p:nvSpPr>
            <p:cNvPr id="229" name=""/>
            <p:cNvSpPr/>
            <p:nvPr/>
          </p:nvSpPr>
          <p:spPr>
            <a:xfrm>
              <a:off x="922320" y="1876320"/>
              <a:ext cx="3435120" cy="2012760"/>
            </a:xfrm>
            <a:custGeom>
              <a:avLst/>
              <a:gdLst/>
              <a:ahLst/>
              <a:rect l="l" t="t" r="r" b="b"/>
              <a:pathLst>
                <a:path w="2136" h="1091">
                  <a:moveTo>
                    <a:pt x="0" y="0"/>
                  </a:moveTo>
                  <a:lnTo>
                    <a:pt x="2135" y="0"/>
                  </a:lnTo>
                  <a:lnTo>
                    <a:pt x="2135" y="1090"/>
                  </a:lnTo>
                  <a:lnTo>
                    <a:pt x="0" y="109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3480" y="2426040"/>
              <a:ext cx="3231000" cy="1341360"/>
            </a:xfrm>
            <a:custGeom>
              <a:avLst/>
              <a:gdLst/>
              <a:ahLst/>
              <a:rect l="l" t="t" r="r" b="b"/>
              <a:pathLst>
                <a:path w="2009" h="727">
                  <a:moveTo>
                    <a:pt x="0" y="0"/>
                  </a:moveTo>
                  <a:lnTo>
                    <a:pt x="2008" y="0"/>
                  </a:lnTo>
                  <a:lnTo>
                    <a:pt x="2008" y="726"/>
                  </a:lnTo>
                  <a:lnTo>
                    <a:pt x="0" y="72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27000" y="1852560"/>
              <a:ext cx="3396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Disjon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04040" y="2429640"/>
              <a:ext cx="3165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On isole les "objets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les uns des aut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de l'environ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de l'observa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934240" y="1486080"/>
            <a:ext cx="3935160" cy="5191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38b"/>
              </a:gs>
              <a:gs pos="100000">
                <a:srgbClr val="ffaa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Ré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4720" y="6391440"/>
            <a:ext cx="33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4720" y="7172280"/>
            <a:ext cx="33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800" y="5826240"/>
            <a:ext cx="432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ondement de l'ex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9640" y="6281640"/>
            <a:ext cx="5540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a structure est la condition nécessaire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uffisante de l'effet et donc de la fo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ssurée par l'obj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03240" y="3894120"/>
            <a:ext cx="3435120" cy="1726920"/>
            <a:chOff x="903240" y="3894120"/>
            <a:chExt cx="3435120" cy="1726920"/>
          </a:xfrm>
        </p:grpSpPr>
        <p:sp>
          <p:nvSpPr>
            <p:cNvPr id="239" name=""/>
            <p:cNvSpPr/>
            <p:nvPr/>
          </p:nvSpPr>
          <p:spPr>
            <a:xfrm>
              <a:off x="903240" y="3917880"/>
              <a:ext cx="3435120" cy="1703160"/>
            </a:xfrm>
            <a:custGeom>
              <a:avLst/>
              <a:gdLst/>
              <a:ahLst/>
              <a:rect l="l" t="t" r="r" b="b"/>
              <a:pathLst>
                <a:path w="2136" h="923">
                  <a:moveTo>
                    <a:pt x="0" y="0"/>
                  </a:moveTo>
                  <a:lnTo>
                    <a:pt x="2135" y="0"/>
                  </a:lnTo>
                  <a:lnTo>
                    <a:pt x="2135" y="922"/>
                  </a:lnTo>
                  <a:lnTo>
                    <a:pt x="0" y="92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04400" y="4466160"/>
              <a:ext cx="3231000" cy="1033200"/>
            </a:xfrm>
            <a:custGeom>
              <a:avLst/>
              <a:gdLst/>
              <a:ahLst/>
              <a:rect l="l" t="t" r="r" b="b"/>
              <a:pathLst>
                <a:path w="2009" h="560">
                  <a:moveTo>
                    <a:pt x="0" y="0"/>
                  </a:moveTo>
                  <a:lnTo>
                    <a:pt x="2008" y="0"/>
                  </a:lnTo>
                  <a:lnTo>
                    <a:pt x="2008" y="559"/>
                  </a:lnTo>
                  <a:lnTo>
                    <a:pt x="0" y="5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9560" y="3894120"/>
              <a:ext cx="2129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Objectivit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84960" y="4527000"/>
              <a:ext cx="31651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Double indépend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de l'objet par rapport 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l'observateu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005440" y="2838600"/>
            <a:ext cx="2703600" cy="2444760"/>
          </a:xfrm>
          <a:custGeom>
            <a:avLst/>
            <a:gdLst/>
            <a:ahLst/>
            <a:rect l="l" t="t" r="r" b="b"/>
            <a:pathLst>
              <a:path w="1681" h="1325">
                <a:moveTo>
                  <a:pt x="0" y="0"/>
                </a:moveTo>
                <a:lnTo>
                  <a:pt x="1680" y="0"/>
                </a:lnTo>
                <a:lnTo>
                  <a:pt x="1680" y="1324"/>
                </a:lnTo>
                <a:lnTo>
                  <a:pt x="0" y="132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8400" y="3313080"/>
            <a:ext cx="2500560" cy="1771560"/>
          </a:xfrm>
          <a:custGeom>
            <a:avLst/>
            <a:gdLst/>
            <a:ahLst/>
            <a:rect l="l" t="t" r="r" b="b"/>
            <a:pathLst>
              <a:path w="1554" h="960">
                <a:moveTo>
                  <a:pt x="0" y="0"/>
                </a:moveTo>
                <a:lnTo>
                  <a:pt x="1553" y="0"/>
                </a:lnTo>
                <a:lnTo>
                  <a:pt x="1553" y="959"/>
                </a:lnTo>
                <a:lnTo>
                  <a:pt x="0" y="959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7760" y="2835360"/>
            <a:ext cx="262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444840"/>
            <a:ext cx="24699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On identifi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éalité la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mplexe à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éalité la mo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mplex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107200" y="2835360"/>
            <a:ext cx="2715840" cy="2449080"/>
            <a:chOff x="8107200" y="2835360"/>
            <a:chExt cx="2715840" cy="2449080"/>
          </a:xfrm>
        </p:grpSpPr>
        <p:sp>
          <p:nvSpPr>
            <p:cNvPr id="248" name=""/>
            <p:cNvSpPr/>
            <p:nvPr/>
          </p:nvSpPr>
          <p:spPr>
            <a:xfrm>
              <a:off x="8107200" y="2838960"/>
              <a:ext cx="2715840" cy="2445480"/>
            </a:xfrm>
            <a:custGeom>
              <a:avLst/>
              <a:gdLst/>
              <a:ahLst/>
              <a:rect l="l" t="t" r="r" b="b"/>
              <a:pathLst>
                <a:path w="1689" h="1325">
                  <a:moveTo>
                    <a:pt x="0" y="0"/>
                  </a:moveTo>
                  <a:lnTo>
                    <a:pt x="1688" y="0"/>
                  </a:lnTo>
                  <a:lnTo>
                    <a:pt x="1688" y="1324"/>
                  </a:lnTo>
                  <a:lnTo>
                    <a:pt x="0" y="132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09800" y="3390840"/>
              <a:ext cx="2495880" cy="1771920"/>
            </a:xfrm>
            <a:custGeom>
              <a:avLst/>
              <a:gdLst/>
              <a:ahLst/>
              <a:rect l="l" t="t" r="r" b="b"/>
              <a:pathLst>
                <a:path w="1552" h="960">
                  <a:moveTo>
                    <a:pt x="0" y="0"/>
                  </a:moveTo>
                  <a:lnTo>
                    <a:pt x="1551" y="0"/>
                  </a:lnTo>
                  <a:lnTo>
                    <a:pt x="1551" y="959"/>
                  </a:lnTo>
                  <a:lnTo>
                    <a:pt x="0" y="9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51840" y="2835360"/>
              <a:ext cx="262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Inter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29240" y="3390840"/>
              <a:ext cx="2392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Réalité nouve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8080" y="4577760"/>
              <a:ext cx="239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Réalité antérie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353160" y="4129200"/>
              <a:ext cx="223200" cy="22680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64" y="122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64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01680" y="952560"/>
            <a:ext cx="497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Comic Sans MS"/>
              </a:rPr>
              <a:t>Principe de simpl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'objet simpl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cxnSp>
        <p:nvCxnSpPr>
          <p:cNvPr id="256" name=""/>
          <p:cNvCxnSpPr>
            <a:stCxn id="233" idx="2"/>
            <a:endCxn id="245" idx="0"/>
          </p:cNvCxnSpPr>
          <p:nvPr/>
        </p:nvCxnSpPr>
        <p:spPr>
          <a:xfrm rot="5400000">
            <a:off x="6744600" y="1677960"/>
            <a:ext cx="753120" cy="1563120"/>
          </a:xfrm>
          <a:prstGeom prst="bentConnector3">
            <a:avLst>
              <a:gd name="adj1" fmla="val 499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33" idx="2"/>
            <a:endCxn id="250" idx="0"/>
          </p:cNvCxnSpPr>
          <p:nvPr/>
        </p:nvCxnSpPr>
        <p:spPr>
          <a:xfrm flipH="1" rot="16200000">
            <a:off x="8306640" y="1677960"/>
            <a:ext cx="753120" cy="1562760"/>
          </a:xfrm>
          <a:prstGeom prst="bentConnector3">
            <a:avLst>
              <a:gd name="adj1" fmla="val 499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3962520"/>
            <a:ext cx="10820520" cy="37335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990720"/>
            <a:ext cx="10820520" cy="28191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1093680"/>
            <a:ext cx="8266320" cy="7066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"D'une manière générale, le simple est toujours le simplifié 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1960" y="1141560"/>
            <a:ext cx="18568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G. Bachel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M.E.S. 19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47800" y="1743120"/>
            <a:ext cx="8266320" cy="17733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" Il nous faut entrer dans le royaume de la pensée complexe et abandonner le regard simplificateur qui rend aveugle notre connaissance, et singulièrement notre connaissance des sources de notre connaissance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4680" y="2171880"/>
            <a:ext cx="206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. Mo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La méthode t.3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3760" y="3962520"/>
            <a:ext cx="422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Comic Sans MS"/>
              </a:rPr>
              <a:t>Principe de complex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49480" y="4514760"/>
            <a:ext cx="4111200" cy="1991160"/>
            <a:chOff x="1149480" y="4514760"/>
            <a:chExt cx="4111200" cy="1991160"/>
          </a:xfrm>
        </p:grpSpPr>
        <p:sp>
          <p:nvSpPr>
            <p:cNvPr id="266" name=""/>
            <p:cNvSpPr/>
            <p:nvPr/>
          </p:nvSpPr>
          <p:spPr>
            <a:xfrm>
              <a:off x="1149480" y="4532400"/>
              <a:ext cx="4111200" cy="1973520"/>
            </a:xfrm>
            <a:custGeom>
              <a:avLst/>
              <a:gdLst/>
              <a:ahLst/>
              <a:rect l="l" t="t" r="r" b="b"/>
              <a:pathLst>
                <a:path w="2556" h="1222">
                  <a:moveTo>
                    <a:pt x="0" y="0"/>
                  </a:moveTo>
                  <a:lnTo>
                    <a:pt x="2555" y="0"/>
                  </a:lnTo>
                  <a:lnTo>
                    <a:pt x="2555" y="1221"/>
                  </a:lnTo>
                  <a:lnTo>
                    <a:pt x="0" y="122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52080" y="5015160"/>
              <a:ext cx="3905640" cy="1384200"/>
            </a:xfrm>
            <a:custGeom>
              <a:avLst/>
              <a:gdLst/>
              <a:ahLst/>
              <a:rect l="l" t="t" r="r" b="b"/>
              <a:pathLst>
                <a:path w="2428" h="857">
                  <a:moveTo>
                    <a:pt x="0" y="0"/>
                  </a:moveTo>
                  <a:lnTo>
                    <a:pt x="2427" y="0"/>
                  </a:lnTo>
                  <a:lnTo>
                    <a:pt x="2427" y="856"/>
                  </a:lnTo>
                  <a:lnTo>
                    <a:pt x="0" y="8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55960" y="4514760"/>
              <a:ext cx="409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Globalit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10040" y="5051160"/>
              <a:ext cx="38602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Considérer l'ob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à connaître comme u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partie immergée et 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au sein de l'environ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076560" y="6515280"/>
            <a:ext cx="208080" cy="226800"/>
          </a:xfrm>
          <a:custGeom>
            <a:avLst/>
            <a:gdLst/>
            <a:ahLst/>
            <a:rect l="l" t="t" r="r" b="b"/>
            <a:pathLst>
              <a:path w="129" h="141">
                <a:moveTo>
                  <a:pt x="64" y="140"/>
                </a:moveTo>
                <a:lnTo>
                  <a:pt x="128" y="0"/>
                </a:lnTo>
                <a:lnTo>
                  <a:pt x="0" y="0"/>
                </a:lnTo>
                <a:lnTo>
                  <a:pt x="64" y="1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276960" y="4514760"/>
            <a:ext cx="4111200" cy="1991160"/>
            <a:chOff x="6276960" y="4514760"/>
            <a:chExt cx="4111200" cy="1991160"/>
          </a:xfrm>
        </p:grpSpPr>
        <p:sp>
          <p:nvSpPr>
            <p:cNvPr id="272" name=""/>
            <p:cNvSpPr/>
            <p:nvPr/>
          </p:nvSpPr>
          <p:spPr>
            <a:xfrm>
              <a:off x="6276960" y="4532400"/>
              <a:ext cx="4111200" cy="1973520"/>
            </a:xfrm>
            <a:custGeom>
              <a:avLst/>
              <a:gdLst/>
              <a:ahLst/>
              <a:rect l="l" t="t" r="r" b="b"/>
              <a:pathLst>
                <a:path w="2556" h="1222">
                  <a:moveTo>
                    <a:pt x="0" y="0"/>
                  </a:moveTo>
                  <a:lnTo>
                    <a:pt x="2555" y="0"/>
                  </a:lnTo>
                  <a:lnTo>
                    <a:pt x="2555" y="1221"/>
                  </a:lnTo>
                  <a:lnTo>
                    <a:pt x="0" y="122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79920" y="5015160"/>
              <a:ext cx="3908160" cy="1384200"/>
            </a:xfrm>
            <a:custGeom>
              <a:avLst/>
              <a:gdLst/>
              <a:ahLst/>
              <a:rect l="l" t="t" r="r" b="b"/>
              <a:pathLst>
                <a:path w="2430" h="857">
                  <a:moveTo>
                    <a:pt x="0" y="0"/>
                  </a:moveTo>
                  <a:lnTo>
                    <a:pt x="2429" y="0"/>
                  </a:lnTo>
                  <a:lnTo>
                    <a:pt x="2429" y="856"/>
                  </a:lnTo>
                  <a:lnTo>
                    <a:pt x="0" y="8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83440" y="4514760"/>
              <a:ext cx="211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Pertin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15560" y="5051160"/>
              <a:ext cx="37828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n objet se définit p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rapport aux inten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(implicites ou explicit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du modélisateu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204040" y="6515280"/>
            <a:ext cx="208080" cy="226800"/>
          </a:xfrm>
          <a:custGeom>
            <a:avLst/>
            <a:gdLst/>
            <a:ahLst/>
            <a:rect l="l" t="t" r="r" b="b"/>
            <a:pathLst>
              <a:path w="129" h="141">
                <a:moveTo>
                  <a:pt x="64" y="140"/>
                </a:moveTo>
                <a:lnTo>
                  <a:pt x="128" y="0"/>
                </a:lnTo>
                <a:lnTo>
                  <a:pt x="0" y="0"/>
                </a:lnTo>
                <a:lnTo>
                  <a:pt x="64" y="1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85880" y="6781680"/>
            <a:ext cx="8219880" cy="752040"/>
            <a:chOff x="1685880" y="6781680"/>
            <a:chExt cx="8219880" cy="752040"/>
          </a:xfrm>
        </p:grpSpPr>
        <p:sp>
          <p:nvSpPr>
            <p:cNvPr id="278" name=""/>
            <p:cNvSpPr/>
            <p:nvPr/>
          </p:nvSpPr>
          <p:spPr>
            <a:xfrm>
              <a:off x="1685880" y="6781680"/>
              <a:ext cx="8219880" cy="752040"/>
            </a:xfrm>
            <a:custGeom>
              <a:avLst/>
              <a:gdLst/>
              <a:ahLst/>
              <a:rect l="l" t="t" r="r" b="b"/>
              <a:pathLst>
                <a:path w="5111" h="466">
                  <a:moveTo>
                    <a:pt x="0" y="465"/>
                  </a:moveTo>
                  <a:lnTo>
                    <a:pt x="5110" y="465"/>
                  </a:lnTo>
                  <a:lnTo>
                    <a:pt x="5110" y="0"/>
                  </a:lnTo>
                  <a:lnTo>
                    <a:pt x="0" y="0"/>
                  </a:lnTo>
                  <a:lnTo>
                    <a:pt x="0" y="465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8840" y="6884640"/>
              <a:ext cx="8013600" cy="543960"/>
            </a:xfrm>
            <a:custGeom>
              <a:avLst/>
              <a:gdLst/>
              <a:ahLst/>
              <a:rect l="l" t="t" r="r" b="b"/>
              <a:pathLst>
                <a:path w="4983" h="337">
                  <a:moveTo>
                    <a:pt x="0" y="336"/>
                  </a:moveTo>
                  <a:lnTo>
                    <a:pt x="4982" y="336"/>
                  </a:lnTo>
                  <a:lnTo>
                    <a:pt x="4982" y="0"/>
                  </a:lnTo>
                  <a:lnTo>
                    <a:pt x="0" y="0"/>
                  </a:lnTo>
                  <a:lnTo>
                    <a:pt x="0" y="336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43560" y="6949080"/>
              <a:ext cx="7873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Modélis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'objet complexe "système"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1177920"/>
            <a:ext cx="10839600" cy="6823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63600" y="1492200"/>
            <a:ext cx="10578960" cy="2502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ebe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1960" y="5294160"/>
            <a:ext cx="407880" cy="209880"/>
          </a:xfrm>
          <a:custGeom>
            <a:avLst/>
            <a:gdLst/>
            <a:ahLst/>
            <a:rect l="l" t="t" r="r" b="b"/>
            <a:pathLst>
              <a:path w="257" h="132">
                <a:moveTo>
                  <a:pt x="0" y="131"/>
                </a:moveTo>
                <a:lnTo>
                  <a:pt x="256" y="131"/>
                </a:lnTo>
                <a:lnTo>
                  <a:pt x="128" y="0"/>
                </a:lnTo>
                <a:lnTo>
                  <a:pt x="0" y="131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4ba44b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1960" y="4081320"/>
            <a:ext cx="407880" cy="209520"/>
          </a:xfrm>
          <a:custGeom>
            <a:avLst/>
            <a:gdLst/>
            <a:ahLst/>
            <a:rect l="l" t="t" r="r" b="b"/>
            <a:pathLst>
              <a:path w="257" h="132">
                <a:moveTo>
                  <a:pt x="0" y="0"/>
                </a:moveTo>
                <a:lnTo>
                  <a:pt x="256" y="0"/>
                </a:lnTo>
                <a:lnTo>
                  <a:pt x="128" y="13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4ba44b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80000" y="4586400"/>
            <a:ext cx="219240" cy="414360"/>
          </a:xfrm>
          <a:custGeom>
            <a:avLst/>
            <a:gdLst/>
            <a:ahLst/>
            <a:rect l="l" t="t" r="r" b="b"/>
            <a:pathLst>
              <a:path w="138" h="261">
                <a:moveTo>
                  <a:pt x="137" y="0"/>
                </a:moveTo>
                <a:lnTo>
                  <a:pt x="137" y="260"/>
                </a:lnTo>
                <a:lnTo>
                  <a:pt x="0" y="130"/>
                </a:lnTo>
                <a:lnTo>
                  <a:pt x="137" y="0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4ba44b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440" y="1463760"/>
            <a:ext cx="105156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Courants historiq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560" y="1411200"/>
            <a:ext cx="3359160" cy="25448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Epistémolog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Bachelard G. (193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Piaget J. 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Bertanlanffy L. (196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imon H. A. (19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Le Moigne - J.L. (197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Morin E. (197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Prigogine I. (197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Atlan H. (1979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81600" y="2001960"/>
            <a:ext cx="3349440" cy="19159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300"/>
            </a:b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Technolog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ener N. (194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hannon C.E. (194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c Culloch (194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orrester J.W. (196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6160" y="1353960"/>
            <a:ext cx="3370320" cy="25639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Scientifiqu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hermo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Biolog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colog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6040" y="5583240"/>
            <a:ext cx="10476000" cy="18939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ebe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9760" y="5530680"/>
            <a:ext cx="10362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Courants actu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60" y="5978520"/>
            <a:ext cx="3391200" cy="13190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Cogniti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odélis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5978520"/>
            <a:ext cx="3349800" cy="13190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Normati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ég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n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86560" y="5978520"/>
            <a:ext cx="3333960" cy="13190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Epistémolog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nséquences du paradig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langage 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ncepts transvers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86560" y="4251240"/>
            <a:ext cx="3333960" cy="10969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Institu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ociétés - Congrè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Ouvrages - Revue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360" y="4384800"/>
            <a:ext cx="5218200" cy="8301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100" spc="-1" strike="noStrike">
                <a:solidFill>
                  <a:srgbClr val="cc3300"/>
                </a:solidFill>
                <a:latin typeface="Comic Sans MS"/>
              </a:rPr>
              <a:t>SYSTEMIQU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toire de la systémiqu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990720"/>
            <a:ext cx="10820520" cy="67816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"Il ne faut pas considérer la systém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omme une science, une théorie, ou une discipli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mais comme une nouvelle méthodologie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ermettant de rassembler et d'organi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les connaissances en vue d'une plus gra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fficacité de l'actio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J. de ROSNAY (197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 du Danger - Système et Systémiqu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990720"/>
            <a:ext cx="10820520" cy="67816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57640" y="1116000"/>
            <a:ext cx="2811600" cy="3995640"/>
          </a:xfrm>
          <a:prstGeom prst="rect">
            <a:avLst/>
          </a:prstGeom>
          <a:solidFill>
            <a:srgbClr val="ffff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06640" y="5715000"/>
            <a:ext cx="7212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quelque chose ( n'importe quoi présumé identifiabl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dans quelque chose ( environnement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pour quelque chose ( finalité ou projet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fait quelque chose ( activité = fonctionnement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par quelque chose ( structure = forme stabl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qui se transforme dans le temps ( évolu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30800" y="2633760"/>
            <a:ext cx="2590560" cy="938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0800" y="1230480"/>
            <a:ext cx="2590560" cy="9223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6200" y="2633760"/>
            <a:ext cx="2603520" cy="938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NVIR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30800" y="4052880"/>
            <a:ext cx="2590560" cy="9399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ACTIV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72440" y="2633760"/>
            <a:ext cx="2603520" cy="938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INA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61320" y="4363920"/>
            <a:ext cx="117360" cy="117720"/>
          </a:xfrm>
          <a:custGeom>
            <a:avLst/>
            <a:gdLst/>
            <a:ahLst/>
            <a:rect l="l" t="t" r="r" b="b"/>
            <a:pathLst>
              <a:path w="74" h="74">
                <a:moveTo>
                  <a:pt x="73" y="73"/>
                </a:moveTo>
                <a:lnTo>
                  <a:pt x="0" y="46"/>
                </a:lnTo>
                <a:lnTo>
                  <a:pt x="63" y="0"/>
                </a:lnTo>
                <a:lnTo>
                  <a:pt x="73" y="7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8680" y="3622680"/>
            <a:ext cx="131760" cy="120600"/>
          </a:xfrm>
          <a:custGeom>
            <a:avLst/>
            <a:gdLst/>
            <a:ahLst/>
            <a:rect l="l" t="t" r="r" b="b"/>
            <a:pathLst>
              <a:path w="83" h="76">
                <a:moveTo>
                  <a:pt x="0" y="18"/>
                </a:moveTo>
                <a:lnTo>
                  <a:pt x="82" y="0"/>
                </a:lnTo>
                <a:lnTo>
                  <a:pt x="45" y="75"/>
                </a:lnTo>
                <a:lnTo>
                  <a:pt x="0" y="1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6280" y="1702800"/>
            <a:ext cx="7909200" cy="283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14" y="15308"/>
                </a:moveTo>
                <a:arcTo wR="10800" hR="10800" stAng="1480313" swAng="2593694"/>
                <a:lnTo>
                  <a:pt x="10800" y="10800"/>
                </a:lnTo>
                <a:close/>
              </a:path>
              <a:path fill="none" w="21600" h="21600">
                <a:moveTo>
                  <a:pt x="20614" y="15308"/>
                </a:moveTo>
                <a:arcTo wR="10800" hR="10800" stAng="1480313" swAng="259369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9162720" y="3697200"/>
            <a:ext cx="284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49640" y="4348080"/>
            <a:ext cx="117720" cy="119160"/>
          </a:xfrm>
          <a:custGeom>
            <a:avLst/>
            <a:gdLst/>
            <a:ahLst/>
            <a:rect l="l" t="t" r="r" b="b"/>
            <a:pathLst>
              <a:path w="74" h="75">
                <a:moveTo>
                  <a:pt x="9" y="0"/>
                </a:moveTo>
                <a:lnTo>
                  <a:pt x="73" y="56"/>
                </a:lnTo>
                <a:lnTo>
                  <a:pt x="0" y="74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6560" y="3622680"/>
            <a:ext cx="131760" cy="120600"/>
          </a:xfrm>
          <a:custGeom>
            <a:avLst/>
            <a:gdLst/>
            <a:ahLst/>
            <a:rect l="l" t="t" r="r" b="b"/>
            <a:pathLst>
              <a:path w="83" h="76">
                <a:moveTo>
                  <a:pt x="36" y="75"/>
                </a:moveTo>
                <a:lnTo>
                  <a:pt x="0" y="0"/>
                </a:lnTo>
                <a:lnTo>
                  <a:pt x="82" y="18"/>
                </a:lnTo>
                <a:lnTo>
                  <a:pt x="36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47720" y="1702440"/>
            <a:ext cx="7908840" cy="283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86" y="20744"/>
                </a:moveTo>
                <a:arcTo wR="10800" hR="10800" stAng="6777983" swAng="2499844"/>
                <a:lnTo>
                  <a:pt x="10800" y="10800"/>
                </a:lnTo>
                <a:close/>
              </a:path>
              <a:path fill="none" w="21600" h="21600">
                <a:moveTo>
                  <a:pt x="6586" y="20744"/>
                </a:moveTo>
                <a:arcTo wR="10800" hR="10800" stAng="6777983" swAng="249984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035240" y="4408560"/>
            <a:ext cx="1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92240" y="3697200"/>
            <a:ext cx="5868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61320" y="1746360"/>
            <a:ext cx="117360" cy="118800"/>
          </a:xfrm>
          <a:custGeom>
            <a:avLst/>
            <a:gdLst/>
            <a:ahLst/>
            <a:rect l="l" t="t" r="r" b="b"/>
            <a:pathLst>
              <a:path w="74" h="75">
                <a:moveTo>
                  <a:pt x="63" y="74"/>
                </a:moveTo>
                <a:lnTo>
                  <a:pt x="0" y="27"/>
                </a:lnTo>
                <a:lnTo>
                  <a:pt x="73" y="0"/>
                </a:lnTo>
                <a:lnTo>
                  <a:pt x="63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8680" y="2486160"/>
            <a:ext cx="131760" cy="118800"/>
          </a:xfrm>
          <a:custGeom>
            <a:avLst/>
            <a:gdLst/>
            <a:ahLst/>
            <a:rect l="l" t="t" r="r" b="b"/>
            <a:pathLst>
              <a:path w="83" h="75">
                <a:moveTo>
                  <a:pt x="45" y="0"/>
                </a:moveTo>
                <a:lnTo>
                  <a:pt x="82" y="74"/>
                </a:lnTo>
                <a:lnTo>
                  <a:pt x="0" y="55"/>
                </a:lnTo>
                <a:lnTo>
                  <a:pt x="4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66360" y="1673280"/>
            <a:ext cx="8068680" cy="289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60" y="792"/>
                </a:moveTo>
                <a:arcTo wR="10800" hR="10800" stAng="-4074987" swAng="2544493"/>
                <a:lnTo>
                  <a:pt x="10800" y="10800"/>
                </a:lnTo>
                <a:close/>
              </a:path>
              <a:path fill="none" w="21600" h="21600">
                <a:moveTo>
                  <a:pt x="14860" y="792"/>
                </a:moveTo>
                <a:arcTo wR="10800" hR="10800" stAng="-4074987" swAng="254449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9134640" y="2485800"/>
            <a:ext cx="5688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9640" y="1746360"/>
            <a:ext cx="117720" cy="118800"/>
          </a:xfrm>
          <a:custGeom>
            <a:avLst/>
            <a:gdLst/>
            <a:ahLst/>
            <a:rect l="l" t="t" r="r" b="b"/>
            <a:pathLst>
              <a:path w="74" h="75">
                <a:moveTo>
                  <a:pt x="0" y="0"/>
                </a:moveTo>
                <a:lnTo>
                  <a:pt x="73" y="27"/>
                </a:lnTo>
                <a:lnTo>
                  <a:pt x="9" y="7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06560" y="2486160"/>
            <a:ext cx="131760" cy="118800"/>
          </a:xfrm>
          <a:custGeom>
            <a:avLst/>
            <a:gdLst/>
            <a:ahLst/>
            <a:rect l="l" t="t" r="r" b="b"/>
            <a:pathLst>
              <a:path w="83" h="75">
                <a:moveTo>
                  <a:pt x="82" y="55"/>
                </a:moveTo>
                <a:lnTo>
                  <a:pt x="0" y="74"/>
                </a:lnTo>
                <a:lnTo>
                  <a:pt x="36" y="0"/>
                </a:lnTo>
                <a:lnTo>
                  <a:pt x="82" y="5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48080" y="1703520"/>
            <a:ext cx="7908480" cy="283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9" y="6285"/>
                </a:moveTo>
                <a:arcTo wR="10800" hR="10800" stAng="-9317346" swAng="2469160"/>
                <a:lnTo>
                  <a:pt x="10800" y="10800"/>
                </a:lnTo>
                <a:close/>
              </a:path>
              <a:path fill="none" w="21600" h="21600">
                <a:moveTo>
                  <a:pt x="989" y="6285"/>
                </a:moveTo>
                <a:arcTo wR="10800" hR="10800" stAng="-9317346" swAng="246916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992240" y="2500200"/>
            <a:ext cx="302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962520" y="1803240"/>
            <a:ext cx="87120" cy="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27800" y="363708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27800" y="388944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73" y="0"/>
                </a:moveTo>
                <a:lnTo>
                  <a:pt x="36" y="75"/>
                </a:lnTo>
                <a:lnTo>
                  <a:pt x="0" y="0"/>
                </a:lnTo>
                <a:lnTo>
                  <a:pt x="7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4680" y="37558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27800" y="247032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73" y="0"/>
                </a:moveTo>
                <a:lnTo>
                  <a:pt x="36" y="75"/>
                </a:lnTo>
                <a:lnTo>
                  <a:pt x="0" y="0"/>
                </a:lnTo>
                <a:lnTo>
                  <a:pt x="7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27800" y="2219400"/>
            <a:ext cx="117360" cy="119160"/>
          </a:xfrm>
          <a:custGeom>
            <a:avLst/>
            <a:gdLst/>
            <a:ahLst/>
            <a:rect l="l" t="t" r="r" b="b"/>
            <a:pathLst>
              <a:path w="74" h="75">
                <a:moveTo>
                  <a:pt x="0" y="74"/>
                </a:moveTo>
                <a:lnTo>
                  <a:pt x="36" y="0"/>
                </a:lnTo>
                <a:lnTo>
                  <a:pt x="73" y="74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584680" y="233640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8200" y="3046320"/>
            <a:ext cx="11772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73" y="75"/>
                </a:moveTo>
                <a:lnTo>
                  <a:pt x="0" y="37"/>
                </a:lnTo>
                <a:lnTo>
                  <a:pt x="73" y="0"/>
                </a:lnTo>
                <a:lnTo>
                  <a:pt x="73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75440" y="3046320"/>
            <a:ext cx="11772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0"/>
                </a:moveTo>
                <a:lnTo>
                  <a:pt x="73" y="37"/>
                </a:lnTo>
                <a:lnTo>
                  <a:pt x="0" y="7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2280" y="312408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05360" y="304632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0"/>
                </a:moveTo>
                <a:lnTo>
                  <a:pt x="73" y="37"/>
                </a:lnTo>
                <a:lnTo>
                  <a:pt x="0" y="7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94200" y="304632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73" y="75"/>
                </a:moveTo>
                <a:lnTo>
                  <a:pt x="0" y="37"/>
                </a:lnTo>
                <a:lnTo>
                  <a:pt x="73" y="0"/>
                </a:lnTo>
                <a:lnTo>
                  <a:pt x="73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209760" y="3105000"/>
            <a:ext cx="79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8540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ème : le paradigme systémique - J.L. LE MOIGN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28600" y="961920"/>
            <a:ext cx="10820520" cy="6810480"/>
          </a:xfrm>
          <a:custGeom>
            <a:avLst/>
            <a:gdLst/>
            <a:ahLst/>
            <a:rect l="l" t="t" r="r" b="b"/>
            <a:pathLst>
              <a:path w="6727" h="3829">
                <a:moveTo>
                  <a:pt x="0" y="0"/>
                </a:moveTo>
                <a:lnTo>
                  <a:pt x="6726" y="0"/>
                </a:lnTo>
                <a:lnTo>
                  <a:pt x="6726" y="3828"/>
                </a:lnTo>
                <a:lnTo>
                  <a:pt x="0" y="38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cap="rnd" w="12600">
            <a:solidFill>
              <a:srgbClr val="7f7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96560" y="6100920"/>
            <a:ext cx="9646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omic Sans MS"/>
              </a:rPr>
              <a:t>Modélisation systémique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omic Sans MS"/>
              </a:rPr>
              <a:t> Action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3000" spc="-1" strike="noStrike">
                <a:solidFill>
                  <a:srgbClr val="000000"/>
                </a:solidFill>
                <a:latin typeface="Comic Sans MS"/>
              </a:rPr>
              <a:t> Processus </a:t>
            </a: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Comic Sans MS"/>
              </a:rPr>
              <a:t>Processus (objets processés + objets processeurs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080" y="5302080"/>
            <a:ext cx="10591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000000"/>
                </a:solidFill>
                <a:latin typeface="Comic Sans MS"/>
              </a:rPr>
              <a:t>Environn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160000" y="1504800"/>
            <a:ext cx="7105680" cy="3398040"/>
            <a:chOff x="2160000" y="1504800"/>
            <a:chExt cx="7105680" cy="3398040"/>
          </a:xfrm>
        </p:grpSpPr>
        <p:sp>
          <p:nvSpPr>
            <p:cNvPr id="344" name=""/>
            <p:cNvSpPr/>
            <p:nvPr/>
          </p:nvSpPr>
          <p:spPr>
            <a:xfrm>
              <a:off x="4155120" y="1504800"/>
              <a:ext cx="3111120" cy="3319920"/>
            </a:xfrm>
            <a:custGeom>
              <a:avLst/>
              <a:gdLst/>
              <a:ahLst/>
              <a:rect l="l" t="t" r="r" b="b"/>
              <a:pathLst>
                <a:path w="1945" h="2275">
                  <a:moveTo>
                    <a:pt x="876" y="68"/>
                  </a:moveTo>
                  <a:lnTo>
                    <a:pt x="9" y="2118"/>
                  </a:lnTo>
                  <a:lnTo>
                    <a:pt x="9" y="2127"/>
                  </a:lnTo>
                  <a:lnTo>
                    <a:pt x="9" y="2137"/>
                  </a:lnTo>
                  <a:lnTo>
                    <a:pt x="0" y="2157"/>
                  </a:lnTo>
                  <a:lnTo>
                    <a:pt x="9" y="2176"/>
                  </a:lnTo>
                  <a:lnTo>
                    <a:pt x="9" y="2196"/>
                  </a:lnTo>
                  <a:lnTo>
                    <a:pt x="18" y="2215"/>
                  </a:lnTo>
                  <a:lnTo>
                    <a:pt x="27" y="2235"/>
                  </a:lnTo>
                  <a:lnTo>
                    <a:pt x="45" y="2244"/>
                  </a:lnTo>
                  <a:lnTo>
                    <a:pt x="54" y="2254"/>
                  </a:lnTo>
                  <a:lnTo>
                    <a:pt x="73" y="2264"/>
                  </a:lnTo>
                  <a:lnTo>
                    <a:pt x="91" y="2264"/>
                  </a:lnTo>
                  <a:lnTo>
                    <a:pt x="109" y="2274"/>
                  </a:lnTo>
                  <a:lnTo>
                    <a:pt x="1843" y="2274"/>
                  </a:lnTo>
                  <a:lnTo>
                    <a:pt x="1843" y="2274"/>
                  </a:lnTo>
                  <a:lnTo>
                    <a:pt x="1861" y="2264"/>
                  </a:lnTo>
                  <a:lnTo>
                    <a:pt x="1880" y="2264"/>
                  </a:lnTo>
                  <a:lnTo>
                    <a:pt x="1898" y="2254"/>
                  </a:lnTo>
                  <a:lnTo>
                    <a:pt x="1916" y="2244"/>
                  </a:lnTo>
                  <a:lnTo>
                    <a:pt x="1925" y="2225"/>
                  </a:lnTo>
                  <a:lnTo>
                    <a:pt x="1934" y="2205"/>
                  </a:lnTo>
                  <a:lnTo>
                    <a:pt x="1944" y="2196"/>
                  </a:lnTo>
                  <a:lnTo>
                    <a:pt x="1944" y="2176"/>
                  </a:lnTo>
                  <a:lnTo>
                    <a:pt x="1944" y="2157"/>
                  </a:lnTo>
                  <a:lnTo>
                    <a:pt x="1944" y="2137"/>
                  </a:lnTo>
                  <a:lnTo>
                    <a:pt x="1934" y="2118"/>
                  </a:lnTo>
                  <a:lnTo>
                    <a:pt x="1077" y="68"/>
                  </a:lnTo>
                  <a:lnTo>
                    <a:pt x="1067" y="58"/>
                  </a:lnTo>
                  <a:lnTo>
                    <a:pt x="1058" y="48"/>
                  </a:lnTo>
                  <a:lnTo>
                    <a:pt x="1049" y="29"/>
                  </a:lnTo>
                  <a:lnTo>
                    <a:pt x="1031" y="19"/>
                  </a:lnTo>
                  <a:lnTo>
                    <a:pt x="1022" y="9"/>
                  </a:lnTo>
                  <a:lnTo>
                    <a:pt x="1003" y="9"/>
                  </a:lnTo>
                  <a:lnTo>
                    <a:pt x="985" y="0"/>
                  </a:lnTo>
                  <a:lnTo>
                    <a:pt x="958" y="0"/>
                  </a:lnTo>
                  <a:lnTo>
                    <a:pt x="940" y="9"/>
                  </a:lnTo>
                  <a:lnTo>
                    <a:pt x="930" y="19"/>
                  </a:lnTo>
                  <a:lnTo>
                    <a:pt x="912" y="29"/>
                  </a:lnTo>
                  <a:lnTo>
                    <a:pt x="894" y="38"/>
                  </a:lnTo>
                  <a:lnTo>
                    <a:pt x="885" y="48"/>
                  </a:lnTo>
                  <a:lnTo>
                    <a:pt x="876" y="68"/>
                  </a:lnTo>
                </a:path>
              </a:pathLst>
            </a:cu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0160" y="452556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176880" y="4525560"/>
              <a:ext cx="3164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3360" y="4618800"/>
              <a:ext cx="118080" cy="11052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0" y="0"/>
                  </a:moveTo>
                  <a:lnTo>
                    <a:pt x="73" y="37"/>
                  </a:lnTo>
                  <a:lnTo>
                    <a:pt x="0" y="7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77240" y="4674600"/>
              <a:ext cx="14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50680" y="4525560"/>
              <a:ext cx="13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630320" y="4525560"/>
              <a:ext cx="30384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30320" y="4674600"/>
              <a:ext cx="6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1920" y="4531680"/>
              <a:ext cx="163080" cy="15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76640" y="4531680"/>
              <a:ext cx="162720" cy="15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60440" y="4353480"/>
              <a:ext cx="1605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Comic Sans MS"/>
                </a:rPr>
                <a:t>Extran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0" y="4216320"/>
              <a:ext cx="156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Comic Sans MS"/>
                </a:rPr>
                <a:t>Intran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28920" y="2205360"/>
              <a:ext cx="2834280" cy="17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Boît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noir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processeu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élisation systémiqu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990720"/>
            <a:ext cx="10820520" cy="67816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25880" y="2070000"/>
            <a:ext cx="3290760" cy="13176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ogni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65960" y="4222800"/>
            <a:ext cx="204840" cy="415800"/>
          </a:xfrm>
          <a:custGeom>
            <a:avLst/>
            <a:gdLst/>
            <a:ahLst/>
            <a:rect l="l" t="t" r="r" b="b"/>
            <a:pathLst>
              <a:path w="129" h="262">
                <a:moveTo>
                  <a:pt x="0" y="261"/>
                </a:moveTo>
                <a:lnTo>
                  <a:pt x="0" y="0"/>
                </a:lnTo>
                <a:lnTo>
                  <a:pt x="128" y="130"/>
                </a:lnTo>
                <a:lnTo>
                  <a:pt x="0" y="261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72080" y="4222800"/>
            <a:ext cx="204480" cy="415800"/>
          </a:xfrm>
          <a:custGeom>
            <a:avLst/>
            <a:gdLst/>
            <a:ahLst/>
            <a:rect l="l" t="t" r="r" b="b"/>
            <a:pathLst>
              <a:path w="129" h="262">
                <a:moveTo>
                  <a:pt x="128" y="261"/>
                </a:moveTo>
                <a:lnTo>
                  <a:pt x="128" y="0"/>
                </a:lnTo>
                <a:lnTo>
                  <a:pt x="0" y="130"/>
                </a:lnTo>
                <a:lnTo>
                  <a:pt x="128" y="261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87920" y="2567160"/>
            <a:ext cx="160200" cy="312480"/>
          </a:xfrm>
          <a:custGeom>
            <a:avLst/>
            <a:gdLst/>
            <a:ahLst/>
            <a:rect l="l" t="t" r="r" b="b"/>
            <a:pathLst>
              <a:path w="101" h="197">
                <a:moveTo>
                  <a:pt x="100" y="196"/>
                </a:moveTo>
                <a:lnTo>
                  <a:pt x="100" y="0"/>
                </a:lnTo>
                <a:lnTo>
                  <a:pt x="0" y="102"/>
                </a:lnTo>
                <a:lnTo>
                  <a:pt x="100" y="196"/>
                </a:lnTo>
              </a:path>
            </a:pathLst>
          </a:custGeom>
          <a:solidFill>
            <a:srgbClr val="0099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1520" y="5943600"/>
            <a:ext cx="150840" cy="351000"/>
          </a:xfrm>
          <a:custGeom>
            <a:avLst/>
            <a:gdLst/>
            <a:ahLst/>
            <a:rect l="l" t="t" r="r" b="b"/>
            <a:pathLst>
              <a:path w="101" h="206">
                <a:moveTo>
                  <a:pt x="0" y="205"/>
                </a:moveTo>
                <a:lnTo>
                  <a:pt x="0" y="0"/>
                </a:lnTo>
                <a:lnTo>
                  <a:pt x="100" y="102"/>
                </a:lnTo>
                <a:lnTo>
                  <a:pt x="0" y="205"/>
                </a:lnTo>
              </a:path>
            </a:pathLst>
          </a:custGeom>
          <a:solidFill>
            <a:srgbClr val="0099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0120" y="5486400"/>
            <a:ext cx="3289320" cy="1301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co-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0120" y="2070000"/>
            <a:ext cx="3289320" cy="13176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3440" y="2070000"/>
            <a:ext cx="3289320" cy="13176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dé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25880" y="3755880"/>
            <a:ext cx="3290760" cy="13622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Comic Sans MS"/>
              </a:rPr>
              <a:t>Ho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Comic Sans MS"/>
              </a:rPr>
              <a:t>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67320" y="5154480"/>
            <a:ext cx="407880" cy="223920"/>
          </a:xfrm>
          <a:custGeom>
            <a:avLst/>
            <a:gdLst/>
            <a:ahLst/>
            <a:rect l="l" t="t" r="r" b="b"/>
            <a:pathLst>
              <a:path w="257" h="141">
                <a:moveTo>
                  <a:pt x="256" y="0"/>
                </a:moveTo>
                <a:lnTo>
                  <a:pt x="0" y="0"/>
                </a:lnTo>
                <a:lnTo>
                  <a:pt x="128" y="140"/>
                </a:lnTo>
                <a:lnTo>
                  <a:pt x="256" y="0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67320" y="3483000"/>
            <a:ext cx="407880" cy="209520"/>
          </a:xfrm>
          <a:custGeom>
            <a:avLst/>
            <a:gdLst/>
            <a:ahLst/>
            <a:rect l="l" t="t" r="r" b="b"/>
            <a:pathLst>
              <a:path w="257" h="132">
                <a:moveTo>
                  <a:pt x="256" y="131"/>
                </a:moveTo>
                <a:lnTo>
                  <a:pt x="0" y="131"/>
                </a:lnTo>
                <a:lnTo>
                  <a:pt x="128" y="0"/>
                </a:lnTo>
                <a:lnTo>
                  <a:pt x="256" y="131"/>
                </a:lnTo>
              </a:path>
            </a:pathLst>
          </a:custGeom>
          <a:solidFill>
            <a:srgbClr val="00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0" y="3505320"/>
            <a:ext cx="304920" cy="152280"/>
          </a:xfrm>
          <a:custGeom>
            <a:avLst/>
            <a:gdLst/>
            <a:ahLst/>
            <a:rect l="l" t="t" r="r" b="b"/>
            <a:pathLst>
              <a:path w="192" h="103">
                <a:moveTo>
                  <a:pt x="191" y="102"/>
                </a:moveTo>
                <a:lnTo>
                  <a:pt x="0" y="102"/>
                </a:lnTo>
                <a:lnTo>
                  <a:pt x="100" y="0"/>
                </a:lnTo>
                <a:lnTo>
                  <a:pt x="191" y="102"/>
                </a:lnTo>
              </a:path>
            </a:pathLst>
          </a:custGeom>
          <a:solidFill>
            <a:srgbClr val="0099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3755880"/>
            <a:ext cx="3289320" cy="13035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relatio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3440" y="5486400"/>
            <a:ext cx="3289320" cy="1301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chn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19160" y="5183280"/>
            <a:ext cx="306360" cy="164880"/>
          </a:xfrm>
          <a:custGeom>
            <a:avLst/>
            <a:gdLst/>
            <a:ahLst/>
            <a:rect l="l" t="t" r="r" b="b"/>
            <a:pathLst>
              <a:path w="193" h="104">
                <a:moveTo>
                  <a:pt x="192" y="0"/>
                </a:moveTo>
                <a:lnTo>
                  <a:pt x="0" y="0"/>
                </a:lnTo>
                <a:lnTo>
                  <a:pt x="100" y="103"/>
                </a:lnTo>
                <a:lnTo>
                  <a:pt x="192" y="0"/>
                </a:lnTo>
              </a:path>
            </a:pathLst>
          </a:custGeom>
          <a:solidFill>
            <a:srgbClr val="0099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3755880"/>
            <a:ext cx="3289320" cy="13035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rtifici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25880" y="5499000"/>
            <a:ext cx="3290760" cy="13176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cessus nature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hysiqu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bi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me - environnement : processus - systèmes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ebe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8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1" lang="fr-FR" sz="4800" spc="-1" strike="noStrike">
                <a:solidFill>
                  <a:srgbClr val="000000"/>
                </a:solidFill>
                <a:latin typeface="Comic Sans MS"/>
              </a:rPr>
              <a:t>cience du </a:t>
            </a:r>
            <a:r>
              <a:rPr b="1" lang="fr-FR" sz="48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1" lang="fr-FR" sz="48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000" spc="-1" strike="noStrike">
                <a:solidFill>
                  <a:srgbClr val="cc3300"/>
                </a:solidFill>
                <a:latin typeface="Comic Sans MS"/>
              </a:rPr>
              <a:t>aspects méthodolog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 du Danger - proposition de définition (1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10820520" cy="67816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dbdfe"/>
              </a:gs>
              <a:gs pos="100000">
                <a:srgbClr val="7f7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Nous appelons 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Science du D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le corps de connaissan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qui a pour objet d'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appréhend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des </a:t>
            </a:r>
            <a:r>
              <a:rPr b="1" lang="fr-FR" sz="4400" spc="-1" strike="noStrike">
                <a:solidFill>
                  <a:srgbClr val="cc3300"/>
                </a:solidFill>
                <a:latin typeface="Comic Sans MS"/>
              </a:rPr>
              <a:t>événements non souha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90720"/>
            <a:ext cx="10820520" cy="67816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5322960"/>
            <a:ext cx="104396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J. Dos Santos (IUT-Bx 1)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          J.L. Ermine (INSTN-Sac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Y. Dutuit (LAP-ADS)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J.M. Pénalva (CEA Marco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. Lesbats (IUT-Bx 1)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P. Périlhon (INSTN-Grenoble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360" y="2082960"/>
            <a:ext cx="103633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000" spc="-1" strike="noStrike">
                <a:solidFill>
                  <a:srgbClr val="cc3300"/>
                </a:solidFill>
                <a:latin typeface="Comic Sans MS"/>
              </a:rPr>
              <a:t>Université Bordeaux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000" spc="-1" strike="noStrike">
                <a:solidFill>
                  <a:srgbClr val="cc3300"/>
                </a:solidFill>
                <a:latin typeface="Comic Sans MS"/>
              </a:rPr>
              <a:t>Commissariat à l'Energie Atom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e MADS : composi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Nous appelons </a:t>
            </a:r>
            <a:r>
              <a:rPr b="1" lang="fr-FR" sz="3200" spc="-1" strike="noStrike">
                <a:solidFill>
                  <a:srgbClr val="cc3300"/>
                </a:solidFill>
                <a:latin typeface="Comic Sans MS"/>
              </a:rPr>
              <a:t>Evénements Non Souhaités</a:t>
            </a:r>
            <a:r>
              <a:rPr b="1" i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es phénomènes susceptibl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provoquer des effets non souhaités s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'individu, la population, l'écosystème, 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installations. Ils sont issus de et s'appliqu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à la structure, l'activité, l'évo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des systèmes naturels et artifici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 du Danger - proposition de définition (2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e terme </a:t>
            </a:r>
            <a:r>
              <a:rPr b="1" lang="fr-FR" sz="3200" spc="-1" strike="noStrike">
                <a:solidFill>
                  <a:srgbClr val="cc3300"/>
                </a:solidFill>
                <a:latin typeface="Comic Sans MS"/>
              </a:rPr>
              <a:t>appréhender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 recouvre, pour no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es opérations suiv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Comic Sans MS"/>
              </a:rPr>
              <a:t>              </a:t>
            </a:r>
            <a:r>
              <a:rPr b="1" lang="fr-FR" sz="3200" spc="-1" strike="noStrike">
                <a:solidFill>
                  <a:srgbClr val="cc3300"/>
                </a:solidFill>
                <a:latin typeface="Comic Sans MS"/>
              </a:rPr>
              <a:t>a priori, a poste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>
              <a:lnSpc>
                <a:spcPct val="100000"/>
              </a:lnSpc>
              <a:tabLst>
                <a:tab algn="l" pos="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représenter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modéli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>
              <a:lnSpc>
                <a:spcPct val="100000"/>
              </a:lnSpc>
              <a:tabLst>
                <a:tab algn="l" pos="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identifier - évaluer - maîtriser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>
              <a:lnSpc>
                <a:spcPct val="100000"/>
              </a:lnSpc>
              <a:tabLst>
                <a:tab algn="l" pos="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gérer et ma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 du Danger - proposition de définition (4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2362320"/>
            <a:ext cx="9086760" cy="463068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890520" y="4709160"/>
            <a:ext cx="2797200" cy="843120"/>
            <a:chOff x="3890520" y="4709160"/>
            <a:chExt cx="2797200" cy="843120"/>
          </a:xfrm>
        </p:grpSpPr>
        <p:sp>
          <p:nvSpPr>
            <p:cNvPr id="388" name=""/>
            <p:cNvSpPr/>
            <p:nvPr/>
          </p:nvSpPr>
          <p:spPr>
            <a:xfrm>
              <a:off x="4498920" y="4765680"/>
              <a:ext cx="2188800" cy="728640"/>
            </a:xfrm>
            <a:custGeom>
              <a:avLst/>
              <a:gdLst/>
              <a:ahLst/>
              <a:rect l="l" t="t" r="r" b="b"/>
              <a:pathLst>
                <a:path w="1379" h="459">
                  <a:moveTo>
                    <a:pt x="0" y="0"/>
                  </a:moveTo>
                  <a:lnTo>
                    <a:pt x="27" y="18"/>
                  </a:lnTo>
                  <a:lnTo>
                    <a:pt x="45" y="37"/>
                  </a:lnTo>
                  <a:lnTo>
                    <a:pt x="63" y="56"/>
                  </a:lnTo>
                  <a:lnTo>
                    <a:pt x="82" y="74"/>
                  </a:lnTo>
                  <a:lnTo>
                    <a:pt x="91" y="93"/>
                  </a:lnTo>
                  <a:lnTo>
                    <a:pt x="109" y="121"/>
                  </a:lnTo>
                  <a:lnTo>
                    <a:pt x="109" y="130"/>
                  </a:lnTo>
                  <a:lnTo>
                    <a:pt x="109" y="130"/>
                  </a:lnTo>
                  <a:lnTo>
                    <a:pt x="265" y="130"/>
                  </a:lnTo>
                  <a:lnTo>
                    <a:pt x="711" y="130"/>
                  </a:lnTo>
                  <a:lnTo>
                    <a:pt x="455" y="392"/>
                  </a:lnTo>
                  <a:lnTo>
                    <a:pt x="1250" y="392"/>
                  </a:lnTo>
                  <a:lnTo>
                    <a:pt x="1250" y="458"/>
                  </a:lnTo>
                  <a:lnTo>
                    <a:pt x="1378" y="327"/>
                  </a:lnTo>
                  <a:lnTo>
                    <a:pt x="1250" y="196"/>
                  </a:lnTo>
                  <a:lnTo>
                    <a:pt x="1250" y="261"/>
                  </a:lnTo>
                  <a:lnTo>
                    <a:pt x="766" y="261"/>
                  </a:lnTo>
                  <a:lnTo>
                    <a:pt x="1022" y="0"/>
                  </a:lnTo>
                  <a:lnTo>
                    <a:pt x="26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90520" y="4709160"/>
              <a:ext cx="826560" cy="84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78" y="1493"/>
                  </a:moveTo>
                  <a:arcTo wR="10800" hR="10800" stAng="-3571164" swAng="2157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78" y="1493"/>
                  </a:moveTo>
                  <a:arcTo wR="10800" hR="10800" stAng="-3571164" swAng="2157242"/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98920" y="4765680"/>
              <a:ext cx="28080" cy="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673520" y="4957560"/>
              <a:ext cx="0" cy="1584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673520" y="4973400"/>
              <a:ext cx="245520" cy="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919400" y="4973400"/>
              <a:ext cx="709200" cy="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224320" y="4976640"/>
              <a:ext cx="404280" cy="41112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222880" y="5387760"/>
              <a:ext cx="1260000" cy="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483240" y="5387400"/>
              <a:ext cx="0" cy="10476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482880" y="5284800"/>
              <a:ext cx="202680" cy="20772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83240" y="5076720"/>
              <a:ext cx="202680" cy="20808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483240" y="5076360"/>
              <a:ext cx="0" cy="10476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16440" y="5181480"/>
              <a:ext cx="766440" cy="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716080" y="4765680"/>
              <a:ext cx="402840" cy="41112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19400" y="4765680"/>
              <a:ext cx="1203120" cy="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98920" y="4765680"/>
              <a:ext cx="420120" cy="0"/>
            </a:xfrm>
            <a:prstGeom prst="line">
              <a:avLst/>
            </a:prstGeom>
            <a:ln w="1260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6664320" y="4403880"/>
            <a:ext cx="2884320" cy="14652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4c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Effets d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25560" y="4403880"/>
            <a:ext cx="2884680" cy="14652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4c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Sources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24600" y="3989520"/>
            <a:ext cx="2362320" cy="830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01680" y="3989520"/>
            <a:ext cx="2362320" cy="830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944480" y="4603680"/>
            <a:ext cx="3002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1560" y="4603680"/>
            <a:ext cx="3002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07960" y="5587920"/>
            <a:ext cx="8610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86080" y="2200320"/>
            <a:ext cx="2886120" cy="146664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4cc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Effets de cham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de dan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62560" y="1682640"/>
            <a:ext cx="2361960" cy="93348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Champ 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dang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2080" y="2387520"/>
            <a:ext cx="3002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92160" y="3208320"/>
            <a:ext cx="286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54720" y="4027320"/>
            <a:ext cx="350640" cy="416160"/>
          </a:xfrm>
          <a:custGeom>
            <a:avLst/>
            <a:gdLst/>
            <a:ahLst/>
            <a:rect l="l" t="t" r="r" b="b"/>
            <a:pathLst>
              <a:path w="221" h="262">
                <a:moveTo>
                  <a:pt x="110" y="261"/>
                </a:moveTo>
                <a:lnTo>
                  <a:pt x="0" y="0"/>
                </a:lnTo>
                <a:lnTo>
                  <a:pt x="220" y="0"/>
                </a:lnTo>
                <a:lnTo>
                  <a:pt x="110" y="261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17800" y="3390840"/>
            <a:ext cx="422280" cy="430200"/>
          </a:xfrm>
          <a:custGeom>
            <a:avLst/>
            <a:gdLst/>
            <a:ahLst/>
            <a:rect l="l" t="t" r="r" b="b"/>
            <a:pathLst>
              <a:path w="266" h="271">
                <a:moveTo>
                  <a:pt x="0" y="270"/>
                </a:moveTo>
                <a:lnTo>
                  <a:pt x="265" y="177"/>
                </a:lnTo>
                <a:lnTo>
                  <a:pt x="118" y="0"/>
                </a:lnTo>
                <a:lnTo>
                  <a:pt x="0" y="270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20000" y="3390840"/>
            <a:ext cx="436320" cy="430200"/>
          </a:xfrm>
          <a:custGeom>
            <a:avLst/>
            <a:gdLst/>
            <a:ahLst/>
            <a:rect l="l" t="t" r="r" b="b"/>
            <a:pathLst>
              <a:path w="275" h="271">
                <a:moveTo>
                  <a:pt x="274" y="270"/>
                </a:moveTo>
                <a:lnTo>
                  <a:pt x="0" y="177"/>
                </a:lnTo>
                <a:lnTo>
                  <a:pt x="155" y="0"/>
                </a:lnTo>
                <a:lnTo>
                  <a:pt x="274" y="270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odèle de référence : le processus de danger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74960" y="1574640"/>
            <a:ext cx="5551560" cy="275292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56160" y="1085760"/>
            <a:ext cx="2290680" cy="108288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mic Sans MS"/>
              </a:rPr>
              <a:t>Cham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165480" y="2654280"/>
            <a:ext cx="1798560" cy="1036800"/>
            <a:chOff x="3165480" y="2654280"/>
            <a:chExt cx="1798560" cy="1036800"/>
          </a:xfrm>
        </p:grpSpPr>
        <p:sp>
          <p:nvSpPr>
            <p:cNvPr id="423" name=""/>
            <p:cNvSpPr/>
            <p:nvPr/>
          </p:nvSpPr>
          <p:spPr>
            <a:xfrm>
              <a:off x="3165480" y="2654280"/>
              <a:ext cx="1798560" cy="103680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40080" y="2755800"/>
              <a:ext cx="1449360" cy="8305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sour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265800" y="2654280"/>
            <a:ext cx="1841400" cy="1036800"/>
            <a:chOff x="6265800" y="2654280"/>
            <a:chExt cx="1841400" cy="1036800"/>
          </a:xfrm>
        </p:grpSpPr>
        <p:sp>
          <p:nvSpPr>
            <p:cNvPr id="426" name=""/>
            <p:cNvSpPr/>
            <p:nvPr/>
          </p:nvSpPr>
          <p:spPr>
            <a:xfrm>
              <a:off x="6265800" y="2654280"/>
              <a:ext cx="1841400" cy="103680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53360" y="2755800"/>
              <a:ext cx="1479240" cy="8305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c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425760" y="2305080"/>
            <a:ext cx="1292400" cy="533520"/>
          </a:xfrm>
          <a:prstGeom prst="ellipse">
            <a:avLst/>
          </a:prstGeom>
          <a:gradFill rotWithShape="0">
            <a:gsLst>
              <a:gs pos="0">
                <a:srgbClr val="ffbf7f"/>
              </a:gs>
              <a:gs pos="50000">
                <a:srgbClr val="fed7b1"/>
              </a:gs>
              <a:gs pos="100000">
                <a:srgbClr val="ffbf7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40480" y="2305080"/>
            <a:ext cx="1290600" cy="571320"/>
          </a:xfrm>
          <a:prstGeom prst="ellipse">
            <a:avLst/>
          </a:prstGeom>
          <a:gradFill rotWithShape="0">
            <a:gsLst>
              <a:gs pos="0">
                <a:srgbClr val="ffbf7f"/>
              </a:gs>
              <a:gs pos="50000">
                <a:srgbClr val="fed7b1"/>
              </a:gs>
              <a:gs pos="100000">
                <a:srgbClr val="ffbf7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yst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11760" y="2927520"/>
            <a:ext cx="1592280" cy="461880"/>
          </a:xfrm>
          <a:custGeom>
            <a:avLst/>
            <a:gdLst/>
            <a:ahLst/>
            <a:rect l="l" t="t" r="r" b="b"/>
            <a:pathLst>
              <a:path w="1003" h="291">
                <a:moveTo>
                  <a:pt x="911" y="252"/>
                </a:moveTo>
                <a:lnTo>
                  <a:pt x="318" y="252"/>
                </a:lnTo>
                <a:lnTo>
                  <a:pt x="501" y="84"/>
                </a:lnTo>
                <a:lnTo>
                  <a:pt x="181" y="84"/>
                </a:lnTo>
                <a:lnTo>
                  <a:pt x="0" y="84"/>
                </a:lnTo>
                <a:lnTo>
                  <a:pt x="91" y="46"/>
                </a:lnTo>
                <a:lnTo>
                  <a:pt x="0" y="0"/>
                </a:lnTo>
                <a:lnTo>
                  <a:pt x="181" y="0"/>
                </a:lnTo>
                <a:lnTo>
                  <a:pt x="774" y="0"/>
                </a:lnTo>
                <a:lnTo>
                  <a:pt x="592" y="168"/>
                </a:lnTo>
                <a:lnTo>
                  <a:pt x="911" y="168"/>
                </a:lnTo>
                <a:lnTo>
                  <a:pt x="911" y="130"/>
                </a:lnTo>
                <a:lnTo>
                  <a:pt x="1002" y="205"/>
                </a:lnTo>
                <a:lnTo>
                  <a:pt x="911" y="290"/>
                </a:lnTo>
                <a:lnTo>
                  <a:pt x="911" y="252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100000">
                <a:srgbClr val="65b165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07000" y="2308320"/>
            <a:ext cx="277920" cy="23796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2" y="149"/>
                </a:moveTo>
                <a:lnTo>
                  <a:pt x="0" y="0"/>
                </a:lnTo>
                <a:lnTo>
                  <a:pt x="174" y="0"/>
                </a:lnTo>
                <a:lnTo>
                  <a:pt x="82" y="149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100000">
                <a:srgbClr val="65b165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49920" y="2006640"/>
            <a:ext cx="262080" cy="268200"/>
          </a:xfrm>
          <a:custGeom>
            <a:avLst/>
            <a:gdLst/>
            <a:ahLst/>
            <a:rect l="l" t="t" r="r" b="b"/>
            <a:pathLst>
              <a:path w="165" h="169">
                <a:moveTo>
                  <a:pt x="164" y="168"/>
                </a:moveTo>
                <a:lnTo>
                  <a:pt x="109" y="0"/>
                </a:lnTo>
                <a:lnTo>
                  <a:pt x="0" y="130"/>
                </a:lnTo>
                <a:lnTo>
                  <a:pt x="164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100000">
                <a:srgbClr val="65b165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8480" y="2025720"/>
            <a:ext cx="263520" cy="268200"/>
          </a:xfrm>
          <a:custGeom>
            <a:avLst/>
            <a:gdLst/>
            <a:ahLst/>
            <a:rect l="l" t="t" r="r" b="b"/>
            <a:pathLst>
              <a:path w="166" h="169">
                <a:moveTo>
                  <a:pt x="0" y="168"/>
                </a:moveTo>
                <a:lnTo>
                  <a:pt x="55" y="0"/>
                </a:lnTo>
                <a:lnTo>
                  <a:pt x="165" y="130"/>
                </a:lnTo>
                <a:lnTo>
                  <a:pt x="0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100000">
                <a:srgbClr val="65b165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71680" y="4800600"/>
            <a:ext cx="10085040" cy="2263680"/>
            <a:chOff x="571680" y="4800600"/>
            <a:chExt cx="10085040" cy="2263680"/>
          </a:xfrm>
        </p:grpSpPr>
        <p:sp>
          <p:nvSpPr>
            <p:cNvPr id="435" name=""/>
            <p:cNvSpPr/>
            <p:nvPr/>
          </p:nvSpPr>
          <p:spPr>
            <a:xfrm>
              <a:off x="571680" y="4800600"/>
              <a:ext cx="10085040" cy="2263680"/>
            </a:xfrm>
            <a:prstGeom prst="rect">
              <a:avLst/>
            </a:prstGeom>
            <a:solidFill>
              <a:srgbClr val="f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54960" y="4917960"/>
              <a:ext cx="2654280" cy="9334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Comic Sans MS"/>
                </a:rPr>
                <a:t>Evalu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20600" y="4917960"/>
              <a:ext cx="2652840" cy="9334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Comic Sans MS"/>
                </a:rPr>
                <a:t>Modélis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80040" y="4917960"/>
              <a:ext cx="2654280" cy="9334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54960" y="6057720"/>
              <a:ext cx="2654280" cy="91944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20600" y="6057720"/>
              <a:ext cx="2652840" cy="91944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Comic Sans MS"/>
                </a:rPr>
                <a:t>Maîtris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80040" y="6057720"/>
              <a:ext cx="2654280" cy="91944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Comic Sans MS"/>
                </a:rPr>
                <a:t>Gér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939168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ssus de danger : modalités de connaissance et d'ac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3" name=""/>
          <p:cNvSpPr/>
          <p:nvPr/>
        </p:nvSpPr>
        <p:spPr>
          <a:xfrm>
            <a:off x="5137200" y="3462840"/>
            <a:ext cx="849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8600" y="1162080"/>
            <a:ext cx="10820520" cy="659772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33520" y="5003640"/>
            <a:ext cx="10085040" cy="1095480"/>
            <a:chOff x="533520" y="5003640"/>
            <a:chExt cx="10085040" cy="1095480"/>
          </a:xfrm>
        </p:grpSpPr>
        <p:sp>
          <p:nvSpPr>
            <p:cNvPr id="446" name=""/>
            <p:cNvSpPr/>
            <p:nvPr/>
          </p:nvSpPr>
          <p:spPr>
            <a:xfrm>
              <a:off x="533520" y="5003640"/>
              <a:ext cx="10085040" cy="1095480"/>
            </a:xfrm>
            <a:prstGeom prst="rect">
              <a:avLst/>
            </a:prstGeom>
            <a:solidFill>
              <a:srgbClr val="f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16800" y="5121000"/>
              <a:ext cx="2654280" cy="9334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Sous-Systèm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de pilota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82440" y="5121000"/>
              <a:ext cx="2652840" cy="9334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Sous-Systèm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opéra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41880" y="5121000"/>
              <a:ext cx="2654280" cy="9334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Sous-Systèm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d'inform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836800" y="1987560"/>
            <a:ext cx="5551560" cy="275256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18000" y="1498680"/>
            <a:ext cx="2290680" cy="10825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127320" y="3067200"/>
            <a:ext cx="1798560" cy="1036440"/>
            <a:chOff x="3127320" y="3067200"/>
            <a:chExt cx="1798560" cy="1036440"/>
          </a:xfrm>
        </p:grpSpPr>
        <p:sp>
          <p:nvSpPr>
            <p:cNvPr id="453" name=""/>
            <p:cNvSpPr/>
            <p:nvPr/>
          </p:nvSpPr>
          <p:spPr>
            <a:xfrm>
              <a:off x="3127320" y="3067200"/>
              <a:ext cx="1798560" cy="103644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01920" y="3168360"/>
              <a:ext cx="1449360" cy="83016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sour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227640" y="3067200"/>
            <a:ext cx="1841400" cy="1036440"/>
            <a:chOff x="6227640" y="3067200"/>
            <a:chExt cx="1841400" cy="1036440"/>
          </a:xfrm>
        </p:grpSpPr>
        <p:sp>
          <p:nvSpPr>
            <p:cNvPr id="456" name=""/>
            <p:cNvSpPr/>
            <p:nvPr/>
          </p:nvSpPr>
          <p:spPr>
            <a:xfrm>
              <a:off x="6227640" y="3067200"/>
              <a:ext cx="1841400" cy="103644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15200" y="3168360"/>
              <a:ext cx="1479240" cy="83016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c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387600" y="2755800"/>
            <a:ext cx="1292400" cy="5335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02320" y="2755800"/>
            <a:ext cx="1290600" cy="5335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73600" y="3359160"/>
            <a:ext cx="1592280" cy="461880"/>
          </a:xfrm>
          <a:custGeom>
            <a:avLst/>
            <a:gdLst/>
            <a:ahLst/>
            <a:rect l="l" t="t" r="r" b="b"/>
            <a:pathLst>
              <a:path w="1003" h="291">
                <a:moveTo>
                  <a:pt x="911" y="252"/>
                </a:moveTo>
                <a:lnTo>
                  <a:pt x="318" y="252"/>
                </a:lnTo>
                <a:lnTo>
                  <a:pt x="501" y="84"/>
                </a:lnTo>
                <a:lnTo>
                  <a:pt x="181" y="84"/>
                </a:lnTo>
                <a:lnTo>
                  <a:pt x="0" y="84"/>
                </a:lnTo>
                <a:lnTo>
                  <a:pt x="91" y="46"/>
                </a:lnTo>
                <a:lnTo>
                  <a:pt x="0" y="0"/>
                </a:lnTo>
                <a:lnTo>
                  <a:pt x="181" y="0"/>
                </a:lnTo>
                <a:lnTo>
                  <a:pt x="774" y="0"/>
                </a:lnTo>
                <a:lnTo>
                  <a:pt x="592" y="168"/>
                </a:lnTo>
                <a:lnTo>
                  <a:pt x="911" y="168"/>
                </a:lnTo>
                <a:lnTo>
                  <a:pt x="911" y="130"/>
                </a:lnTo>
                <a:lnTo>
                  <a:pt x="1002" y="205"/>
                </a:lnTo>
                <a:lnTo>
                  <a:pt x="911" y="290"/>
                </a:lnTo>
                <a:lnTo>
                  <a:pt x="911" y="252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8840" y="2720880"/>
            <a:ext cx="277920" cy="23832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2" y="149"/>
                </a:moveTo>
                <a:lnTo>
                  <a:pt x="0" y="0"/>
                </a:lnTo>
                <a:lnTo>
                  <a:pt x="174" y="0"/>
                </a:lnTo>
                <a:lnTo>
                  <a:pt x="82" y="149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11760" y="2438280"/>
            <a:ext cx="262080" cy="268560"/>
          </a:xfrm>
          <a:custGeom>
            <a:avLst/>
            <a:gdLst/>
            <a:ahLst/>
            <a:rect l="l" t="t" r="r" b="b"/>
            <a:pathLst>
              <a:path w="165" h="169">
                <a:moveTo>
                  <a:pt x="164" y="168"/>
                </a:moveTo>
                <a:lnTo>
                  <a:pt x="109" y="0"/>
                </a:lnTo>
                <a:lnTo>
                  <a:pt x="0" y="130"/>
                </a:lnTo>
                <a:lnTo>
                  <a:pt x="164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40320" y="2438280"/>
            <a:ext cx="263520" cy="268560"/>
          </a:xfrm>
          <a:custGeom>
            <a:avLst/>
            <a:gdLst/>
            <a:ahLst/>
            <a:rect l="l" t="t" r="r" b="b"/>
            <a:pathLst>
              <a:path w="166" h="169">
                <a:moveTo>
                  <a:pt x="0" y="168"/>
                </a:moveTo>
                <a:lnTo>
                  <a:pt x="55" y="0"/>
                </a:lnTo>
                <a:lnTo>
                  <a:pt x="165" y="130"/>
                </a:lnTo>
                <a:lnTo>
                  <a:pt x="0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33520" y="6172200"/>
            <a:ext cx="10085040" cy="1095480"/>
            <a:chOff x="533520" y="6172200"/>
            <a:chExt cx="10085040" cy="1095480"/>
          </a:xfrm>
        </p:grpSpPr>
        <p:sp>
          <p:nvSpPr>
            <p:cNvPr id="465" name=""/>
            <p:cNvSpPr/>
            <p:nvPr/>
          </p:nvSpPr>
          <p:spPr>
            <a:xfrm>
              <a:off x="533520" y="6172200"/>
              <a:ext cx="10085040" cy="1095480"/>
            </a:xfrm>
            <a:prstGeom prst="rect">
              <a:avLst/>
            </a:prstGeom>
            <a:solidFill>
              <a:srgbClr val="f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70160" y="6261120"/>
              <a:ext cx="2333520" cy="91944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Comic Sans MS"/>
                </a:rPr>
                <a:t>Fonc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48400" y="6261120"/>
              <a:ext cx="2333520" cy="91944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Comic Sans MS"/>
                </a:rPr>
                <a:t>Evolu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3720" y="6261120"/>
              <a:ext cx="2333520" cy="91944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Comic Sans MS"/>
                </a:rPr>
                <a:t>Structur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24840" y="6261120"/>
              <a:ext cx="2333520" cy="91944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Comic Sans MS"/>
                </a:rPr>
                <a:t>Environnemen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7239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processus de danger : critères pour une typolog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 sources et des cibles</a:t>
            </a:r>
            <a:endParaRPr b="1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74960" y="1574640"/>
            <a:ext cx="5551560" cy="275292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56160" y="1085760"/>
            <a:ext cx="2290680" cy="108288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165480" y="2654280"/>
            <a:ext cx="1798560" cy="1036800"/>
            <a:chOff x="3165480" y="2654280"/>
            <a:chExt cx="1798560" cy="1036800"/>
          </a:xfrm>
        </p:grpSpPr>
        <p:sp>
          <p:nvSpPr>
            <p:cNvPr id="475" name=""/>
            <p:cNvSpPr/>
            <p:nvPr/>
          </p:nvSpPr>
          <p:spPr>
            <a:xfrm>
              <a:off x="3165480" y="2654280"/>
              <a:ext cx="1798560" cy="103680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40080" y="2755800"/>
              <a:ext cx="1449360" cy="8305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265800" y="2654280"/>
            <a:ext cx="1841400" cy="1036800"/>
            <a:chOff x="6265800" y="2654280"/>
            <a:chExt cx="1841400" cy="1036800"/>
          </a:xfrm>
        </p:grpSpPr>
        <p:sp>
          <p:nvSpPr>
            <p:cNvPr id="478" name=""/>
            <p:cNvSpPr/>
            <p:nvPr/>
          </p:nvSpPr>
          <p:spPr>
            <a:xfrm>
              <a:off x="6265800" y="2654280"/>
              <a:ext cx="1841400" cy="103680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3360" y="2755800"/>
              <a:ext cx="1479240" cy="8305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425760" y="2343240"/>
            <a:ext cx="1292400" cy="533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40480" y="2343240"/>
            <a:ext cx="1290600" cy="533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11760" y="2927520"/>
            <a:ext cx="1592280" cy="461880"/>
          </a:xfrm>
          <a:custGeom>
            <a:avLst/>
            <a:gdLst/>
            <a:ahLst/>
            <a:rect l="l" t="t" r="r" b="b"/>
            <a:pathLst>
              <a:path w="1003" h="291">
                <a:moveTo>
                  <a:pt x="911" y="252"/>
                </a:moveTo>
                <a:lnTo>
                  <a:pt x="318" y="252"/>
                </a:lnTo>
                <a:lnTo>
                  <a:pt x="501" y="84"/>
                </a:lnTo>
                <a:lnTo>
                  <a:pt x="181" y="84"/>
                </a:lnTo>
                <a:lnTo>
                  <a:pt x="0" y="84"/>
                </a:lnTo>
                <a:lnTo>
                  <a:pt x="91" y="46"/>
                </a:lnTo>
                <a:lnTo>
                  <a:pt x="0" y="0"/>
                </a:lnTo>
                <a:lnTo>
                  <a:pt x="181" y="0"/>
                </a:lnTo>
                <a:lnTo>
                  <a:pt x="774" y="0"/>
                </a:lnTo>
                <a:lnTo>
                  <a:pt x="592" y="168"/>
                </a:lnTo>
                <a:lnTo>
                  <a:pt x="911" y="168"/>
                </a:lnTo>
                <a:lnTo>
                  <a:pt x="911" y="130"/>
                </a:lnTo>
                <a:lnTo>
                  <a:pt x="1002" y="205"/>
                </a:lnTo>
                <a:lnTo>
                  <a:pt x="911" y="290"/>
                </a:lnTo>
                <a:lnTo>
                  <a:pt x="911" y="252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07000" y="2308320"/>
            <a:ext cx="277920" cy="23796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2" y="149"/>
                </a:moveTo>
                <a:lnTo>
                  <a:pt x="0" y="0"/>
                </a:lnTo>
                <a:lnTo>
                  <a:pt x="174" y="0"/>
                </a:lnTo>
                <a:lnTo>
                  <a:pt x="82" y="149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49920" y="2025720"/>
            <a:ext cx="262080" cy="268200"/>
          </a:xfrm>
          <a:custGeom>
            <a:avLst/>
            <a:gdLst/>
            <a:ahLst/>
            <a:rect l="l" t="t" r="r" b="b"/>
            <a:pathLst>
              <a:path w="165" h="169">
                <a:moveTo>
                  <a:pt x="164" y="168"/>
                </a:moveTo>
                <a:lnTo>
                  <a:pt x="109" y="0"/>
                </a:lnTo>
                <a:lnTo>
                  <a:pt x="0" y="130"/>
                </a:lnTo>
                <a:lnTo>
                  <a:pt x="164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8480" y="2025720"/>
            <a:ext cx="263520" cy="268200"/>
          </a:xfrm>
          <a:custGeom>
            <a:avLst/>
            <a:gdLst/>
            <a:ahLst/>
            <a:rect l="l" t="t" r="r" b="b"/>
            <a:pathLst>
              <a:path w="166" h="169">
                <a:moveTo>
                  <a:pt x="0" y="168"/>
                </a:moveTo>
                <a:lnTo>
                  <a:pt x="55" y="0"/>
                </a:lnTo>
                <a:lnTo>
                  <a:pt x="165" y="130"/>
                </a:lnTo>
                <a:lnTo>
                  <a:pt x="0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14560" y="3295800"/>
            <a:ext cx="541044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Flux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danger</a:t>
            </a:r>
            <a:r>
              <a:rPr b="1" lang="fr-FR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28560" y="4667400"/>
            <a:ext cx="10085400" cy="2523960"/>
          </a:xfrm>
          <a:prstGeom prst="rect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typologie des flux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9" name=""/>
          <p:cNvSpPr/>
          <p:nvPr/>
        </p:nvSpPr>
        <p:spPr>
          <a:xfrm>
            <a:off x="1104840" y="5924520"/>
            <a:ext cx="2590920" cy="838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Ma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81560" y="5315040"/>
            <a:ext cx="2590920" cy="838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0120" y="5924520"/>
            <a:ext cx="2590560" cy="838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4960" y="1574640"/>
            <a:ext cx="5551560" cy="275292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56160" y="1085760"/>
            <a:ext cx="2290680" cy="108288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165480" y="2654280"/>
            <a:ext cx="1798560" cy="1036800"/>
            <a:chOff x="3165480" y="2654280"/>
            <a:chExt cx="1798560" cy="1036800"/>
          </a:xfrm>
        </p:grpSpPr>
        <p:sp>
          <p:nvSpPr>
            <p:cNvPr id="496" name=""/>
            <p:cNvSpPr/>
            <p:nvPr/>
          </p:nvSpPr>
          <p:spPr>
            <a:xfrm>
              <a:off x="3165480" y="2654280"/>
              <a:ext cx="1798560" cy="103680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40080" y="2755800"/>
              <a:ext cx="1449360" cy="8305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265800" y="2654280"/>
            <a:ext cx="1841400" cy="1036800"/>
            <a:chOff x="6265800" y="2654280"/>
            <a:chExt cx="1841400" cy="1036800"/>
          </a:xfrm>
        </p:grpSpPr>
        <p:sp>
          <p:nvSpPr>
            <p:cNvPr id="499" name=""/>
            <p:cNvSpPr/>
            <p:nvPr/>
          </p:nvSpPr>
          <p:spPr>
            <a:xfrm>
              <a:off x="6265800" y="2654280"/>
              <a:ext cx="1841400" cy="103680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3360" y="2755800"/>
              <a:ext cx="1479240" cy="8305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425760" y="2343240"/>
            <a:ext cx="1292400" cy="533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40480" y="2343240"/>
            <a:ext cx="1290600" cy="5331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11760" y="2927520"/>
            <a:ext cx="1592280" cy="461880"/>
          </a:xfrm>
          <a:custGeom>
            <a:avLst/>
            <a:gdLst/>
            <a:ahLst/>
            <a:rect l="l" t="t" r="r" b="b"/>
            <a:pathLst>
              <a:path w="1003" h="291">
                <a:moveTo>
                  <a:pt x="911" y="252"/>
                </a:moveTo>
                <a:lnTo>
                  <a:pt x="318" y="252"/>
                </a:lnTo>
                <a:lnTo>
                  <a:pt x="501" y="84"/>
                </a:lnTo>
                <a:lnTo>
                  <a:pt x="181" y="84"/>
                </a:lnTo>
                <a:lnTo>
                  <a:pt x="0" y="84"/>
                </a:lnTo>
                <a:lnTo>
                  <a:pt x="91" y="46"/>
                </a:lnTo>
                <a:lnTo>
                  <a:pt x="0" y="0"/>
                </a:lnTo>
                <a:lnTo>
                  <a:pt x="181" y="0"/>
                </a:lnTo>
                <a:lnTo>
                  <a:pt x="774" y="0"/>
                </a:lnTo>
                <a:lnTo>
                  <a:pt x="592" y="168"/>
                </a:lnTo>
                <a:lnTo>
                  <a:pt x="911" y="168"/>
                </a:lnTo>
                <a:lnTo>
                  <a:pt x="911" y="130"/>
                </a:lnTo>
                <a:lnTo>
                  <a:pt x="1002" y="205"/>
                </a:lnTo>
                <a:lnTo>
                  <a:pt x="911" y="290"/>
                </a:lnTo>
                <a:lnTo>
                  <a:pt x="911" y="252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07000" y="2308320"/>
            <a:ext cx="277920" cy="23796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2" y="149"/>
                </a:moveTo>
                <a:lnTo>
                  <a:pt x="0" y="0"/>
                </a:lnTo>
                <a:lnTo>
                  <a:pt x="174" y="0"/>
                </a:lnTo>
                <a:lnTo>
                  <a:pt x="82" y="149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649920" y="2025720"/>
            <a:ext cx="262080" cy="268200"/>
          </a:xfrm>
          <a:custGeom>
            <a:avLst/>
            <a:gdLst/>
            <a:ahLst/>
            <a:rect l="l" t="t" r="r" b="b"/>
            <a:pathLst>
              <a:path w="165" h="169">
                <a:moveTo>
                  <a:pt x="164" y="168"/>
                </a:moveTo>
                <a:lnTo>
                  <a:pt x="109" y="0"/>
                </a:lnTo>
                <a:lnTo>
                  <a:pt x="0" y="130"/>
                </a:lnTo>
                <a:lnTo>
                  <a:pt x="164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8480" y="2025720"/>
            <a:ext cx="263520" cy="268200"/>
          </a:xfrm>
          <a:custGeom>
            <a:avLst/>
            <a:gdLst/>
            <a:ahLst/>
            <a:rect l="l" t="t" r="r" b="b"/>
            <a:pathLst>
              <a:path w="166" h="169">
                <a:moveTo>
                  <a:pt x="0" y="168"/>
                </a:moveTo>
                <a:lnTo>
                  <a:pt x="55" y="0"/>
                </a:lnTo>
                <a:lnTo>
                  <a:pt x="165" y="130"/>
                </a:lnTo>
                <a:lnTo>
                  <a:pt x="0" y="168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14560" y="3333600"/>
            <a:ext cx="541044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Flux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omic Sans MS"/>
              </a:rPr>
              <a:t>danger</a:t>
            </a:r>
            <a:r>
              <a:rPr b="1" lang="fr-FR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71680" y="4819680"/>
            <a:ext cx="10085040" cy="2352600"/>
            <a:chOff x="571680" y="4819680"/>
            <a:chExt cx="10085040" cy="2352600"/>
          </a:xfrm>
        </p:grpSpPr>
        <p:sp>
          <p:nvSpPr>
            <p:cNvPr id="509" name=""/>
            <p:cNvSpPr/>
            <p:nvPr/>
          </p:nvSpPr>
          <p:spPr>
            <a:xfrm>
              <a:off x="571680" y="4819680"/>
              <a:ext cx="10085040" cy="2352600"/>
            </a:xfrm>
            <a:prstGeom prst="rect">
              <a:avLst/>
            </a:prstGeom>
            <a:solidFill>
              <a:srgbClr val="f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020600" y="5025960"/>
              <a:ext cx="4173840" cy="19702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Comic Sans MS"/>
                </a:rPr>
                <a:t>Processeur de temp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22200" y="5691240"/>
              <a:ext cx="3768840" cy="50652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Flux chroniqu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22200" y="6372360"/>
              <a:ext cx="3768840" cy="50472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Flux limit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04000" y="5025960"/>
              <a:ext cx="4173480" cy="197028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Comic Sans MS"/>
                </a:rPr>
                <a:t>Processeur d'espa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1440" y="5691240"/>
              <a:ext cx="3752640" cy="50652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Flux ponctue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21440" y="6372360"/>
              <a:ext cx="3752640" cy="504720"/>
            </a:xfrm>
            <a:prstGeom prst="rect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93760"/>
                  <a:tab algn="l" pos="2387520"/>
                  <a:tab algn="l" pos="3581280"/>
                  <a:tab algn="l" pos="4775040"/>
                  <a:tab algn="l" pos="5969160"/>
                  <a:tab algn="l" pos="7162920"/>
                  <a:tab algn="l" pos="8356680"/>
                  <a:tab algn="l" pos="9550440"/>
                  <a:tab algn="l" pos="107442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Comic Sans MS"/>
                </a:rPr>
                <a:t>Flux diffu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typologie des flux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8600" y="1238400"/>
            <a:ext cx="10820520" cy="65214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0840" y="1409760"/>
            <a:ext cx="2361960" cy="725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3399"/>
                </a:solidFill>
                <a:latin typeface="Comic Sans MS"/>
              </a:rPr>
              <a:t>Système sour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84400" y="1409760"/>
            <a:ext cx="2363760" cy="725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3399"/>
                </a:solidFill>
                <a:latin typeface="Comic Sans MS"/>
              </a:rPr>
              <a:t>Système ci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1409760"/>
            <a:ext cx="5290920" cy="725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300" spc="-1" strike="noStrike">
                <a:solidFill>
                  <a:srgbClr val="003399"/>
                </a:solidFill>
                <a:latin typeface="Comic Sans MS"/>
              </a:rPr>
              <a:t>Points de vu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0" y="2297160"/>
            <a:ext cx="2363760" cy="638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20840" y="2297160"/>
            <a:ext cx="2361960" cy="638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2297160"/>
            <a:ext cx="5290920" cy="638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omic Sans MS"/>
              </a:rPr>
              <a:t>Sécurité des installations - Sûreté d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omic Sans MS"/>
              </a:rPr>
              <a:t>fonctionnement - Sécurité des biens - 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84400" y="3021120"/>
            <a:ext cx="2363760" cy="623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Opérateu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0840" y="3021120"/>
            <a:ext cx="2361960" cy="623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021120"/>
            <a:ext cx="5290920" cy="623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rgonomie - Analyse des conditions de travail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écurité du travail - Sécurité des installations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-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84400" y="3746520"/>
            <a:ext cx="2363760" cy="622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0840" y="3746520"/>
            <a:ext cx="2361960" cy="622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Opérateu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3746520"/>
            <a:ext cx="5290920" cy="622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omic Sans MS"/>
              </a:rPr>
              <a:t>Fiabilité humaine - Malveillance interne - 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84400" y="4470480"/>
            <a:ext cx="2363760" cy="622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fc0128"/>
                </a:solidFill>
                <a:latin typeface="Comic Sans MS"/>
              </a:rPr>
              <a:t>Popu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0840" y="4470480"/>
            <a:ext cx="2361960" cy="622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fc0128"/>
                </a:solidFill>
                <a:latin typeface="Comic Sans MS"/>
              </a:rPr>
              <a:t>Instal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4470480"/>
            <a:ext cx="5290920" cy="622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ygiène et Santé publ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fr-FR" sz="1600" spc="-1" strike="noStrike">
                <a:solidFill>
                  <a:srgbClr val="fc0128"/>
                </a:solidFill>
                <a:latin typeface="Comic Sans MS"/>
              </a:rPr>
              <a:t>Médecine d’urgence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- Sécurité des installations -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84400" y="5195880"/>
            <a:ext cx="2363760" cy="622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0840" y="5195880"/>
            <a:ext cx="2361960" cy="622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195880"/>
            <a:ext cx="5290920" cy="622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omic Sans MS"/>
              </a:rPr>
              <a:t>Malveillance externe - 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84400" y="5919840"/>
            <a:ext cx="2363760" cy="623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Eco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0840" y="5919840"/>
            <a:ext cx="2361960" cy="623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2720" y="5919840"/>
            <a:ext cx="5290920" cy="623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S de l'environnement - Ecologie appliquée - Gén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anitaire - Sécurité des installations -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84400" y="6629400"/>
            <a:ext cx="2363760" cy="638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fc0128"/>
                </a:solidFill>
                <a:latin typeface="Comic Sans MS"/>
              </a:rPr>
              <a:t>Popu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0840" y="6629400"/>
            <a:ext cx="2361960" cy="638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fc0128"/>
                </a:solidFill>
                <a:latin typeface="Comic Sans MS"/>
              </a:rPr>
              <a:t>Eco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6629400"/>
            <a:ext cx="5290920" cy="638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omic Sans MS"/>
              </a:rPr>
              <a:t>Risques naturels - </a:t>
            </a:r>
            <a:r>
              <a:rPr b="1" lang="fr-FR" sz="1600" spc="-1" strike="noStrike">
                <a:solidFill>
                  <a:srgbClr val="fc0128"/>
                </a:solidFill>
                <a:latin typeface="Comic Sans MS"/>
              </a:rPr>
              <a:t>Médecine d’urgence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Comic Sans MS"/>
              </a:rPr>
              <a:t>Urbanisme, 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9391680" cy="95256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ece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oint de vue des techniques d'études des dysfonctionnements - les couples -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44720" y="2081160"/>
            <a:ext cx="7388280" cy="366876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75280" y="1444680"/>
            <a:ext cx="305892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Champ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de dang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305080" y="3529080"/>
            <a:ext cx="2422440" cy="1376280"/>
            <a:chOff x="2305080" y="3529080"/>
            <a:chExt cx="2422440" cy="1376280"/>
          </a:xfrm>
        </p:grpSpPr>
        <p:sp>
          <p:nvSpPr>
            <p:cNvPr id="547" name=""/>
            <p:cNvSpPr/>
            <p:nvPr/>
          </p:nvSpPr>
          <p:spPr>
            <a:xfrm>
              <a:off x="2305080" y="3529080"/>
              <a:ext cx="2422440" cy="137628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1c5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50960" y="3662280"/>
              <a:ext cx="1930680" cy="111096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1c5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Install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448320" y="3529080"/>
            <a:ext cx="2467080" cy="1376280"/>
            <a:chOff x="6448320" y="3529080"/>
            <a:chExt cx="2467080" cy="1376280"/>
          </a:xfrm>
        </p:grpSpPr>
        <p:sp>
          <p:nvSpPr>
            <p:cNvPr id="550" name=""/>
            <p:cNvSpPr/>
            <p:nvPr/>
          </p:nvSpPr>
          <p:spPr>
            <a:xfrm>
              <a:off x="6448320" y="3529080"/>
              <a:ext cx="2467080" cy="137628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1c5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94560" y="3662280"/>
              <a:ext cx="1973160" cy="111096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1c5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Popul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652840" y="3129120"/>
            <a:ext cx="174132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11920" y="3129120"/>
            <a:ext cx="17398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46960" y="3451320"/>
            <a:ext cx="1991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16560" y="3908520"/>
            <a:ext cx="2130480" cy="606240"/>
          </a:xfrm>
          <a:custGeom>
            <a:avLst/>
            <a:gdLst/>
            <a:ahLst/>
            <a:rect l="l" t="t" r="r" b="b"/>
            <a:pathLst>
              <a:path w="1342" h="382">
                <a:moveTo>
                  <a:pt x="1213" y="325"/>
                </a:moveTo>
                <a:lnTo>
                  <a:pt x="428" y="325"/>
                </a:lnTo>
                <a:lnTo>
                  <a:pt x="665" y="110"/>
                </a:lnTo>
                <a:lnTo>
                  <a:pt x="246" y="110"/>
                </a:lnTo>
                <a:lnTo>
                  <a:pt x="0" y="110"/>
                </a:lnTo>
                <a:lnTo>
                  <a:pt x="127" y="54"/>
                </a:lnTo>
                <a:lnTo>
                  <a:pt x="0" y="0"/>
                </a:lnTo>
                <a:lnTo>
                  <a:pt x="246" y="0"/>
                </a:lnTo>
                <a:lnTo>
                  <a:pt x="1031" y="0"/>
                </a:lnTo>
                <a:lnTo>
                  <a:pt x="793" y="213"/>
                </a:lnTo>
                <a:lnTo>
                  <a:pt x="1213" y="213"/>
                </a:lnTo>
                <a:lnTo>
                  <a:pt x="1213" y="157"/>
                </a:lnTo>
                <a:lnTo>
                  <a:pt x="1341" y="269"/>
                </a:lnTo>
                <a:lnTo>
                  <a:pt x="1213" y="381"/>
                </a:lnTo>
                <a:lnTo>
                  <a:pt x="1213" y="32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8440" y="6324480"/>
            <a:ext cx="3259080" cy="12160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Hygiène et Sécurité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de l'environnement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Génie sanitai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416720" y="5842080"/>
            <a:ext cx="3249720" cy="14446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Hygiène 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Santé publiques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Médecine d’urgence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5200" y="678960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46560" y="3706920"/>
            <a:ext cx="625320" cy="622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03880" y="4016520"/>
            <a:ext cx="60984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87760" y="4321080"/>
            <a:ext cx="11772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45000" y="444024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42200" y="463248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00880" y="4751280"/>
            <a:ext cx="0" cy="20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73880" y="3065400"/>
            <a:ext cx="363240" cy="311040"/>
          </a:xfrm>
          <a:custGeom>
            <a:avLst/>
            <a:gdLst/>
            <a:ahLst/>
            <a:rect l="l" t="t" r="r" b="b"/>
            <a:pathLst>
              <a:path w="229" h="196">
                <a:moveTo>
                  <a:pt x="109" y="195"/>
                </a:moveTo>
                <a:lnTo>
                  <a:pt x="0" y="0"/>
                </a:lnTo>
                <a:lnTo>
                  <a:pt x="228" y="0"/>
                </a:lnTo>
                <a:lnTo>
                  <a:pt x="109" y="19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964200" y="2695680"/>
            <a:ext cx="34956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219" y="214"/>
                </a:moveTo>
                <a:lnTo>
                  <a:pt x="146" y="0"/>
                </a:lnTo>
                <a:lnTo>
                  <a:pt x="0" y="176"/>
                </a:lnTo>
                <a:lnTo>
                  <a:pt x="219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7240" y="269568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0" y="214"/>
                </a:moveTo>
                <a:lnTo>
                  <a:pt x="73" y="0"/>
                </a:lnTo>
                <a:lnTo>
                  <a:pt x="219" y="176"/>
                </a:lnTo>
                <a:lnTo>
                  <a:pt x="0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500880" y="6789600"/>
            <a:ext cx="86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82280" y="695808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installation - popula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944720" y="2141640"/>
            <a:ext cx="7388280" cy="3668760"/>
          </a:xfrm>
          <a:prstGeom prst="ellipse">
            <a:avLst/>
          </a:prstGeom>
          <a:solidFill>
            <a:srgbClr val="fffe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75280" y="1504800"/>
            <a:ext cx="305892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omic Sans MS"/>
              </a:rPr>
              <a:t>Cham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omic Sans MS"/>
              </a:rPr>
              <a:t>de d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305080" y="3589200"/>
            <a:ext cx="2422440" cy="1376640"/>
            <a:chOff x="2305080" y="3589200"/>
            <a:chExt cx="2422440" cy="1376640"/>
          </a:xfrm>
        </p:grpSpPr>
        <p:sp>
          <p:nvSpPr>
            <p:cNvPr id="575" name=""/>
            <p:cNvSpPr/>
            <p:nvPr/>
          </p:nvSpPr>
          <p:spPr>
            <a:xfrm>
              <a:off x="2305080" y="3589200"/>
              <a:ext cx="2422440" cy="137664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4c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0960" y="3722760"/>
              <a:ext cx="193068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4c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Opéra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448320" y="3589200"/>
            <a:ext cx="2467080" cy="1376640"/>
            <a:chOff x="6448320" y="3589200"/>
            <a:chExt cx="2467080" cy="1376640"/>
          </a:xfrm>
        </p:grpSpPr>
        <p:sp>
          <p:nvSpPr>
            <p:cNvPr id="578" name=""/>
            <p:cNvSpPr/>
            <p:nvPr/>
          </p:nvSpPr>
          <p:spPr>
            <a:xfrm>
              <a:off x="6448320" y="3589200"/>
              <a:ext cx="2467080" cy="137664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1c5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4560" y="3722760"/>
              <a:ext cx="197316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1c5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2652840" y="3189240"/>
            <a:ext cx="174132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11920" y="3189240"/>
            <a:ext cx="17398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19600" y="3591000"/>
            <a:ext cx="19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86640" y="430992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16560" y="3968640"/>
            <a:ext cx="2130480" cy="606600"/>
          </a:xfrm>
          <a:custGeom>
            <a:avLst/>
            <a:gdLst/>
            <a:ahLst/>
            <a:rect l="l" t="t" r="r" b="b"/>
            <a:pathLst>
              <a:path w="1342" h="382">
                <a:moveTo>
                  <a:pt x="1213" y="325"/>
                </a:moveTo>
                <a:lnTo>
                  <a:pt x="428" y="325"/>
                </a:lnTo>
                <a:lnTo>
                  <a:pt x="665" y="110"/>
                </a:lnTo>
                <a:lnTo>
                  <a:pt x="246" y="110"/>
                </a:lnTo>
                <a:lnTo>
                  <a:pt x="0" y="110"/>
                </a:lnTo>
                <a:lnTo>
                  <a:pt x="127" y="54"/>
                </a:lnTo>
                <a:lnTo>
                  <a:pt x="0" y="0"/>
                </a:lnTo>
                <a:lnTo>
                  <a:pt x="246" y="0"/>
                </a:lnTo>
                <a:lnTo>
                  <a:pt x="1031" y="0"/>
                </a:lnTo>
                <a:lnTo>
                  <a:pt x="793" y="213"/>
                </a:lnTo>
                <a:lnTo>
                  <a:pt x="1213" y="213"/>
                </a:lnTo>
                <a:lnTo>
                  <a:pt x="1213" y="157"/>
                </a:lnTo>
                <a:lnTo>
                  <a:pt x="1341" y="269"/>
                </a:lnTo>
                <a:lnTo>
                  <a:pt x="1213" y="381"/>
                </a:lnTo>
                <a:lnTo>
                  <a:pt x="1213" y="32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8440" y="6546960"/>
            <a:ext cx="3259080" cy="6379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b99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91520" y="6546960"/>
            <a:ext cx="3274920" cy="6379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b99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67480" y="670572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alveillance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5200" y="68500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46560" y="3767040"/>
            <a:ext cx="625320" cy="622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03880" y="4076640"/>
            <a:ext cx="60984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87760" y="4381560"/>
            <a:ext cx="11772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45000" y="450072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42200" y="469260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00880" y="4811760"/>
            <a:ext cx="0" cy="20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73880" y="3125880"/>
            <a:ext cx="363240" cy="311040"/>
          </a:xfrm>
          <a:custGeom>
            <a:avLst/>
            <a:gdLst/>
            <a:ahLst/>
            <a:rect l="l" t="t" r="r" b="b"/>
            <a:pathLst>
              <a:path w="229" h="196">
                <a:moveTo>
                  <a:pt x="109" y="195"/>
                </a:moveTo>
                <a:lnTo>
                  <a:pt x="0" y="0"/>
                </a:lnTo>
                <a:lnTo>
                  <a:pt x="228" y="0"/>
                </a:lnTo>
                <a:lnTo>
                  <a:pt x="109" y="19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45240" y="374652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87600" y="374652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64200" y="2755800"/>
            <a:ext cx="34956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219" y="214"/>
                </a:moveTo>
                <a:lnTo>
                  <a:pt x="146" y="0"/>
                </a:lnTo>
                <a:lnTo>
                  <a:pt x="0" y="176"/>
                </a:lnTo>
                <a:lnTo>
                  <a:pt x="219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7240" y="275580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0" y="214"/>
                </a:moveTo>
                <a:lnTo>
                  <a:pt x="73" y="0"/>
                </a:lnTo>
                <a:lnTo>
                  <a:pt x="219" y="176"/>
                </a:lnTo>
                <a:lnTo>
                  <a:pt x="0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7640" y="668664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abilité humain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500880" y="6850080"/>
            <a:ext cx="86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opérateur - installa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768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ebe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1" lang="fr-FR" sz="4800" spc="-1" strike="noStrike">
                <a:solidFill>
                  <a:srgbClr val="000000"/>
                </a:solidFill>
                <a:latin typeface="Comic Sans MS"/>
              </a:rPr>
              <a:t>cience du</a:t>
            </a:r>
            <a:r>
              <a:rPr b="1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8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1" lang="fr-FR" sz="48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000" spc="-1" strike="noStrike">
                <a:solidFill>
                  <a:srgbClr val="cc3300"/>
                </a:solidFill>
                <a:latin typeface="Comic Sans MS"/>
              </a:rPr>
              <a:t>la probléma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44720" y="2147760"/>
            <a:ext cx="7388280" cy="366876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75280" y="1511280"/>
            <a:ext cx="305892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Cham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de dang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305080" y="3595680"/>
            <a:ext cx="2422440" cy="1376280"/>
            <a:chOff x="2305080" y="3595680"/>
            <a:chExt cx="2422440" cy="1376280"/>
          </a:xfrm>
        </p:grpSpPr>
        <p:sp>
          <p:nvSpPr>
            <p:cNvPr id="607" name=""/>
            <p:cNvSpPr/>
            <p:nvPr/>
          </p:nvSpPr>
          <p:spPr>
            <a:xfrm>
              <a:off x="2305080" y="3595680"/>
              <a:ext cx="2422440" cy="1376280"/>
            </a:xfrm>
            <a:prstGeom prst="ellipse">
              <a:avLst/>
            </a:prstGeom>
            <a:solidFill>
              <a:srgbClr val="ffaa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50960" y="3728880"/>
              <a:ext cx="1930680" cy="111096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3aa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Install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448320" y="3595680"/>
            <a:ext cx="2467080" cy="1376280"/>
            <a:chOff x="6448320" y="3595680"/>
            <a:chExt cx="2467080" cy="1376280"/>
          </a:xfrm>
        </p:grpSpPr>
        <p:sp>
          <p:nvSpPr>
            <p:cNvPr id="610" name=""/>
            <p:cNvSpPr/>
            <p:nvPr/>
          </p:nvSpPr>
          <p:spPr>
            <a:xfrm>
              <a:off x="6448320" y="3595680"/>
              <a:ext cx="2467080" cy="1376280"/>
            </a:xfrm>
            <a:prstGeom prst="ellipse">
              <a:avLst/>
            </a:prstGeom>
            <a:solidFill>
              <a:srgbClr val="ffaa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94560" y="3728880"/>
              <a:ext cx="1973160" cy="111096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3aa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Ecosystèm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652840" y="3195720"/>
            <a:ext cx="174132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1920" y="3195720"/>
            <a:ext cx="17398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7880" y="3651120"/>
            <a:ext cx="1991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16560" y="3975120"/>
            <a:ext cx="2130480" cy="606240"/>
          </a:xfrm>
          <a:custGeom>
            <a:avLst/>
            <a:gdLst/>
            <a:ahLst/>
            <a:rect l="l" t="t" r="r" b="b"/>
            <a:pathLst>
              <a:path w="1342" h="382">
                <a:moveTo>
                  <a:pt x="1213" y="325"/>
                </a:moveTo>
                <a:lnTo>
                  <a:pt x="428" y="325"/>
                </a:lnTo>
                <a:lnTo>
                  <a:pt x="665" y="110"/>
                </a:lnTo>
                <a:lnTo>
                  <a:pt x="246" y="110"/>
                </a:lnTo>
                <a:lnTo>
                  <a:pt x="0" y="110"/>
                </a:lnTo>
                <a:lnTo>
                  <a:pt x="127" y="54"/>
                </a:lnTo>
                <a:lnTo>
                  <a:pt x="0" y="0"/>
                </a:lnTo>
                <a:lnTo>
                  <a:pt x="246" y="0"/>
                </a:lnTo>
                <a:lnTo>
                  <a:pt x="1031" y="0"/>
                </a:lnTo>
                <a:lnTo>
                  <a:pt x="793" y="213"/>
                </a:lnTo>
                <a:lnTo>
                  <a:pt x="1213" y="213"/>
                </a:lnTo>
                <a:lnTo>
                  <a:pt x="1213" y="157"/>
                </a:lnTo>
                <a:lnTo>
                  <a:pt x="1341" y="269"/>
                </a:lnTo>
                <a:lnTo>
                  <a:pt x="1213" y="381"/>
                </a:lnTo>
                <a:lnTo>
                  <a:pt x="1213" y="32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98cb98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8440" y="6391440"/>
            <a:ext cx="3259080" cy="12668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Hygiène et Sécurit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de l'environnement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Génie sanitai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91520" y="6553080"/>
            <a:ext cx="3274920" cy="638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Ecologie appliqué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5200" y="685656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46560" y="3773520"/>
            <a:ext cx="625320" cy="622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203880" y="4083120"/>
            <a:ext cx="60984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87760" y="4387680"/>
            <a:ext cx="117720" cy="12096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45000" y="4506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42200" y="469908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00880" y="4818240"/>
            <a:ext cx="0" cy="20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73880" y="3132000"/>
            <a:ext cx="363240" cy="311400"/>
          </a:xfrm>
          <a:custGeom>
            <a:avLst/>
            <a:gdLst/>
            <a:ahLst/>
            <a:rect l="l" t="t" r="r" b="b"/>
            <a:pathLst>
              <a:path w="229" h="196">
                <a:moveTo>
                  <a:pt x="109" y="195"/>
                </a:moveTo>
                <a:lnTo>
                  <a:pt x="0" y="0"/>
                </a:lnTo>
                <a:lnTo>
                  <a:pt x="228" y="0"/>
                </a:lnTo>
                <a:lnTo>
                  <a:pt x="109" y="19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98cb98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78240" y="371160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64200" y="2762280"/>
            <a:ext cx="34956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219" y="214"/>
                </a:moveTo>
                <a:lnTo>
                  <a:pt x="146" y="0"/>
                </a:lnTo>
                <a:lnTo>
                  <a:pt x="0" y="176"/>
                </a:lnTo>
                <a:lnTo>
                  <a:pt x="219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98cb98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97240" y="276228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0" y="214"/>
                </a:moveTo>
                <a:lnTo>
                  <a:pt x="73" y="0"/>
                </a:lnTo>
                <a:lnTo>
                  <a:pt x="219" y="176"/>
                </a:lnTo>
                <a:lnTo>
                  <a:pt x="0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98cb98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500880" y="6856560"/>
            <a:ext cx="86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installation - écosystèm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9800" y="2081160"/>
            <a:ext cx="7388280" cy="3668760"/>
          </a:xfrm>
          <a:prstGeom prst="ellipse">
            <a:avLst/>
          </a:prstGeom>
          <a:solidFill>
            <a:srgbClr val="fffe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40360" y="1444680"/>
            <a:ext cx="305892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Champ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2270160" y="3529080"/>
            <a:ext cx="2422440" cy="1376280"/>
            <a:chOff x="2270160" y="3529080"/>
            <a:chExt cx="2422440" cy="1376280"/>
          </a:xfrm>
        </p:grpSpPr>
        <p:sp>
          <p:nvSpPr>
            <p:cNvPr id="635" name=""/>
            <p:cNvSpPr/>
            <p:nvPr/>
          </p:nvSpPr>
          <p:spPr>
            <a:xfrm>
              <a:off x="2270160" y="3529080"/>
              <a:ext cx="2422440" cy="1376280"/>
            </a:xfrm>
            <a:prstGeom prst="ellipse">
              <a:avLst/>
            </a:prstGeom>
            <a:solidFill>
              <a:srgbClr val="ffaa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6040" y="3662280"/>
              <a:ext cx="193068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3aa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Pop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2617920" y="3129120"/>
            <a:ext cx="174132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27440" y="3568680"/>
            <a:ext cx="219564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1640" y="3908520"/>
            <a:ext cx="2130120" cy="606240"/>
          </a:xfrm>
          <a:custGeom>
            <a:avLst/>
            <a:gdLst/>
            <a:ahLst/>
            <a:rect l="l" t="t" r="r" b="b"/>
            <a:pathLst>
              <a:path w="1342" h="382">
                <a:moveTo>
                  <a:pt x="1213" y="325"/>
                </a:moveTo>
                <a:lnTo>
                  <a:pt x="428" y="325"/>
                </a:lnTo>
                <a:lnTo>
                  <a:pt x="665" y="110"/>
                </a:lnTo>
                <a:lnTo>
                  <a:pt x="246" y="110"/>
                </a:lnTo>
                <a:lnTo>
                  <a:pt x="0" y="110"/>
                </a:lnTo>
                <a:lnTo>
                  <a:pt x="127" y="54"/>
                </a:lnTo>
                <a:lnTo>
                  <a:pt x="0" y="0"/>
                </a:lnTo>
                <a:lnTo>
                  <a:pt x="246" y="0"/>
                </a:lnTo>
                <a:lnTo>
                  <a:pt x="1031" y="0"/>
                </a:lnTo>
                <a:lnTo>
                  <a:pt x="793" y="213"/>
                </a:lnTo>
                <a:lnTo>
                  <a:pt x="1213" y="213"/>
                </a:lnTo>
                <a:lnTo>
                  <a:pt x="1213" y="157"/>
                </a:lnTo>
                <a:lnTo>
                  <a:pt x="1341" y="269"/>
                </a:lnTo>
                <a:lnTo>
                  <a:pt x="1213" y="381"/>
                </a:lnTo>
                <a:lnTo>
                  <a:pt x="1213" y="32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6324480"/>
            <a:ext cx="3259080" cy="962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écurité pub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356600" y="6324480"/>
            <a:ext cx="3274920" cy="9622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alveillance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x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70280" y="678960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11640" y="3706920"/>
            <a:ext cx="625320" cy="622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68960" y="4016520"/>
            <a:ext cx="60984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52840" y="4321080"/>
            <a:ext cx="11772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0080" y="444024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07280" y="463248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465960" y="4751280"/>
            <a:ext cx="0" cy="20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38960" y="3065400"/>
            <a:ext cx="363240" cy="311040"/>
          </a:xfrm>
          <a:custGeom>
            <a:avLst/>
            <a:gdLst/>
            <a:ahLst/>
            <a:rect l="l" t="t" r="r" b="b"/>
            <a:pathLst>
              <a:path w="229" h="196">
                <a:moveTo>
                  <a:pt x="109" y="195"/>
                </a:moveTo>
                <a:lnTo>
                  <a:pt x="0" y="0"/>
                </a:lnTo>
                <a:lnTo>
                  <a:pt x="228" y="0"/>
                </a:lnTo>
                <a:lnTo>
                  <a:pt x="109" y="19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10320" y="368604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368604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29280" y="2695680"/>
            <a:ext cx="34956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219" y="214"/>
                </a:moveTo>
                <a:lnTo>
                  <a:pt x="146" y="0"/>
                </a:lnTo>
                <a:lnTo>
                  <a:pt x="0" y="176"/>
                </a:lnTo>
                <a:lnTo>
                  <a:pt x="219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62320" y="269568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0" y="214"/>
                </a:moveTo>
                <a:lnTo>
                  <a:pt x="73" y="0"/>
                </a:lnTo>
                <a:lnTo>
                  <a:pt x="219" y="176"/>
                </a:lnTo>
                <a:lnTo>
                  <a:pt x="0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6465960" y="6789600"/>
            <a:ext cx="86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6413400" y="3529080"/>
            <a:ext cx="2467080" cy="1376280"/>
            <a:chOff x="6413400" y="3529080"/>
            <a:chExt cx="2467080" cy="1376280"/>
          </a:xfrm>
        </p:grpSpPr>
        <p:sp>
          <p:nvSpPr>
            <p:cNvPr id="656" name=""/>
            <p:cNvSpPr/>
            <p:nvPr/>
          </p:nvSpPr>
          <p:spPr>
            <a:xfrm>
              <a:off x="6413400" y="3529080"/>
              <a:ext cx="2467080" cy="1376280"/>
            </a:xfrm>
            <a:prstGeom prst="ellipse">
              <a:avLst/>
            </a:prstGeom>
            <a:solidFill>
              <a:srgbClr val="ffaa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59640" y="3662280"/>
              <a:ext cx="197316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3aa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70800" y="4051440"/>
              <a:ext cx="198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population - installa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0" name=""/>
          <p:cNvSpPr/>
          <p:nvPr/>
        </p:nvSpPr>
        <p:spPr>
          <a:xfrm>
            <a:off x="6777000" y="3129120"/>
            <a:ext cx="17398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08720" y="6391440"/>
            <a:ext cx="3413160" cy="8571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édecine de catastrop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6120" y="2147760"/>
            <a:ext cx="7387920" cy="3668760"/>
          </a:xfrm>
          <a:prstGeom prst="ellipse">
            <a:avLst/>
          </a:prstGeom>
          <a:gradFill rotWithShape="0">
            <a:gsLst>
              <a:gs pos="0">
                <a:srgbClr val="ffffae"/>
              </a:gs>
              <a:gs pos="50000">
                <a:srgbClr val="fefebd"/>
              </a:gs>
              <a:gs pos="100000">
                <a:srgbClr val="ffffa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16320" y="1511280"/>
            <a:ext cx="305928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Champ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46480" y="3595680"/>
            <a:ext cx="2422440" cy="1376280"/>
            <a:chOff x="2346480" y="3595680"/>
            <a:chExt cx="2422440" cy="1376280"/>
          </a:xfrm>
        </p:grpSpPr>
        <p:sp>
          <p:nvSpPr>
            <p:cNvPr id="666" name=""/>
            <p:cNvSpPr/>
            <p:nvPr/>
          </p:nvSpPr>
          <p:spPr>
            <a:xfrm>
              <a:off x="2346480" y="3595680"/>
              <a:ext cx="2422440" cy="137628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92360" y="3728880"/>
              <a:ext cx="193032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Ecosystè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489720" y="3595680"/>
            <a:ext cx="2467080" cy="1376280"/>
            <a:chOff x="6489720" y="3595680"/>
            <a:chExt cx="2467080" cy="1376280"/>
          </a:xfrm>
        </p:grpSpPr>
        <p:sp>
          <p:nvSpPr>
            <p:cNvPr id="669" name=""/>
            <p:cNvSpPr/>
            <p:nvPr/>
          </p:nvSpPr>
          <p:spPr>
            <a:xfrm>
              <a:off x="6489720" y="3595680"/>
              <a:ext cx="2467080" cy="137628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35600" y="3728880"/>
              <a:ext cx="197352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Pop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693880" y="3195720"/>
            <a:ext cx="17416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3320" y="3195720"/>
            <a:ext cx="17398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08800" y="3594240"/>
            <a:ext cx="1991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57600" y="3975120"/>
            <a:ext cx="2130480" cy="606240"/>
          </a:xfrm>
          <a:custGeom>
            <a:avLst/>
            <a:gdLst/>
            <a:ahLst/>
            <a:rect l="l" t="t" r="r" b="b"/>
            <a:pathLst>
              <a:path w="1342" h="382">
                <a:moveTo>
                  <a:pt x="1213" y="325"/>
                </a:moveTo>
                <a:lnTo>
                  <a:pt x="428" y="325"/>
                </a:lnTo>
                <a:lnTo>
                  <a:pt x="665" y="110"/>
                </a:lnTo>
                <a:lnTo>
                  <a:pt x="246" y="110"/>
                </a:lnTo>
                <a:lnTo>
                  <a:pt x="0" y="110"/>
                </a:lnTo>
                <a:lnTo>
                  <a:pt x="127" y="54"/>
                </a:lnTo>
                <a:lnTo>
                  <a:pt x="0" y="0"/>
                </a:lnTo>
                <a:lnTo>
                  <a:pt x="246" y="0"/>
                </a:lnTo>
                <a:lnTo>
                  <a:pt x="1031" y="0"/>
                </a:lnTo>
                <a:lnTo>
                  <a:pt x="793" y="213"/>
                </a:lnTo>
                <a:lnTo>
                  <a:pt x="1213" y="213"/>
                </a:lnTo>
                <a:lnTo>
                  <a:pt x="1213" y="157"/>
                </a:lnTo>
                <a:lnTo>
                  <a:pt x="1341" y="269"/>
                </a:lnTo>
                <a:lnTo>
                  <a:pt x="1213" y="381"/>
                </a:lnTo>
                <a:lnTo>
                  <a:pt x="1213" y="32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46600" y="685656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87960" y="3773520"/>
            <a:ext cx="625320" cy="622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45280" y="4083120"/>
            <a:ext cx="60948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529160" y="4387680"/>
            <a:ext cx="117360" cy="12096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86400" y="4506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83240" y="4699080"/>
            <a:ext cx="11772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41920" y="4818240"/>
            <a:ext cx="0" cy="20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14920" y="3132000"/>
            <a:ext cx="363600" cy="311400"/>
          </a:xfrm>
          <a:custGeom>
            <a:avLst/>
            <a:gdLst/>
            <a:ahLst/>
            <a:rect l="l" t="t" r="r" b="b"/>
            <a:pathLst>
              <a:path w="229" h="196">
                <a:moveTo>
                  <a:pt x="109" y="195"/>
                </a:moveTo>
                <a:lnTo>
                  <a:pt x="0" y="0"/>
                </a:lnTo>
                <a:lnTo>
                  <a:pt x="228" y="0"/>
                </a:lnTo>
                <a:lnTo>
                  <a:pt x="109" y="19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19640" y="371160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005600" y="276228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219" y="214"/>
                </a:moveTo>
                <a:lnTo>
                  <a:pt x="146" y="0"/>
                </a:lnTo>
                <a:lnTo>
                  <a:pt x="0" y="176"/>
                </a:lnTo>
                <a:lnTo>
                  <a:pt x="219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38640" y="276228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0" y="214"/>
                </a:moveTo>
                <a:lnTo>
                  <a:pt x="73" y="0"/>
                </a:lnTo>
                <a:lnTo>
                  <a:pt x="219" y="176"/>
                </a:lnTo>
                <a:lnTo>
                  <a:pt x="0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541560" y="6856560"/>
            <a:ext cx="7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901360" y="662940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6381720"/>
            <a:ext cx="3259080" cy="8096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Risque natu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écosystème - popula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44720" y="2062080"/>
            <a:ext cx="7388280" cy="3668760"/>
          </a:xfrm>
          <a:prstGeom prst="ellipse">
            <a:avLst/>
          </a:prstGeom>
          <a:solidFill>
            <a:srgbClr val="fff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305080" y="3510000"/>
            <a:ext cx="2422440" cy="1376280"/>
            <a:chOff x="2305080" y="3510000"/>
            <a:chExt cx="2422440" cy="1376280"/>
          </a:xfrm>
        </p:grpSpPr>
        <p:sp>
          <p:nvSpPr>
            <p:cNvPr id="693" name=""/>
            <p:cNvSpPr/>
            <p:nvPr/>
          </p:nvSpPr>
          <p:spPr>
            <a:xfrm>
              <a:off x="2305080" y="3510000"/>
              <a:ext cx="2422440" cy="137628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4c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50960" y="3643200"/>
              <a:ext cx="193068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4c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Install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448320" y="3510000"/>
            <a:ext cx="2467080" cy="1376280"/>
            <a:chOff x="6448320" y="3510000"/>
            <a:chExt cx="2467080" cy="1376280"/>
          </a:xfrm>
        </p:grpSpPr>
        <p:sp>
          <p:nvSpPr>
            <p:cNvPr id="696" name=""/>
            <p:cNvSpPr/>
            <p:nvPr/>
          </p:nvSpPr>
          <p:spPr>
            <a:xfrm>
              <a:off x="6448320" y="3510000"/>
              <a:ext cx="2467080" cy="137628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6d0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94560" y="3643200"/>
              <a:ext cx="197316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e6d0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Opérateu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652840" y="3110040"/>
            <a:ext cx="174132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4c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11920" y="3110040"/>
            <a:ext cx="17398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e6d0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70640" y="3489480"/>
            <a:ext cx="1991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16560" y="3889440"/>
            <a:ext cx="2130480" cy="606240"/>
          </a:xfrm>
          <a:custGeom>
            <a:avLst/>
            <a:gdLst/>
            <a:ahLst/>
            <a:rect l="l" t="t" r="r" b="b"/>
            <a:pathLst>
              <a:path w="1342" h="382">
                <a:moveTo>
                  <a:pt x="1213" y="325"/>
                </a:moveTo>
                <a:lnTo>
                  <a:pt x="428" y="325"/>
                </a:lnTo>
                <a:lnTo>
                  <a:pt x="665" y="110"/>
                </a:lnTo>
                <a:lnTo>
                  <a:pt x="246" y="110"/>
                </a:lnTo>
                <a:lnTo>
                  <a:pt x="0" y="110"/>
                </a:lnTo>
                <a:lnTo>
                  <a:pt x="127" y="54"/>
                </a:lnTo>
                <a:lnTo>
                  <a:pt x="0" y="0"/>
                </a:lnTo>
                <a:lnTo>
                  <a:pt x="246" y="0"/>
                </a:lnTo>
                <a:lnTo>
                  <a:pt x="1031" y="0"/>
                </a:lnTo>
                <a:lnTo>
                  <a:pt x="793" y="213"/>
                </a:lnTo>
                <a:lnTo>
                  <a:pt x="1213" y="213"/>
                </a:lnTo>
                <a:lnTo>
                  <a:pt x="1213" y="157"/>
                </a:lnTo>
                <a:lnTo>
                  <a:pt x="1341" y="269"/>
                </a:lnTo>
                <a:lnTo>
                  <a:pt x="1213" y="381"/>
                </a:lnTo>
                <a:lnTo>
                  <a:pt x="1213" y="32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7ebe7e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5200" y="677052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46560" y="3687840"/>
            <a:ext cx="625320" cy="622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03880" y="3997440"/>
            <a:ext cx="60984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87760" y="4302000"/>
            <a:ext cx="11772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45000" y="4421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42200" y="461340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00880" y="4732200"/>
            <a:ext cx="0" cy="20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573880" y="3046320"/>
            <a:ext cx="363240" cy="311400"/>
          </a:xfrm>
          <a:custGeom>
            <a:avLst/>
            <a:gdLst/>
            <a:ahLst/>
            <a:rect l="l" t="t" r="r" b="b"/>
            <a:pathLst>
              <a:path w="229" h="196">
                <a:moveTo>
                  <a:pt x="109" y="195"/>
                </a:moveTo>
                <a:lnTo>
                  <a:pt x="0" y="0"/>
                </a:lnTo>
                <a:lnTo>
                  <a:pt x="228" y="0"/>
                </a:lnTo>
                <a:lnTo>
                  <a:pt x="109" y="19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7ebe7e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35880" y="362592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78240" y="362592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64200" y="2676600"/>
            <a:ext cx="34956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219" y="214"/>
                </a:moveTo>
                <a:lnTo>
                  <a:pt x="146" y="0"/>
                </a:lnTo>
                <a:lnTo>
                  <a:pt x="0" y="176"/>
                </a:lnTo>
                <a:lnTo>
                  <a:pt x="219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7ebe7e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97240" y="267660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0" y="214"/>
                </a:moveTo>
                <a:lnTo>
                  <a:pt x="73" y="0"/>
                </a:lnTo>
                <a:lnTo>
                  <a:pt x="219" y="176"/>
                </a:lnTo>
                <a:lnTo>
                  <a:pt x="0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7ebe7e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500880" y="6770520"/>
            <a:ext cx="86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391520" y="6553080"/>
            <a:ext cx="3346200" cy="9590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fc0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Ergonom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2480" y="6553080"/>
            <a:ext cx="3373560" cy="9525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fc0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Sécurité des install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Sécurité du travai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installation - opérateur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8" name=""/>
          <p:cNvSpPr/>
          <p:nvPr/>
        </p:nvSpPr>
        <p:spPr>
          <a:xfrm>
            <a:off x="4211640" y="1382760"/>
            <a:ext cx="305928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Cham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de dang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34360" y="6377040"/>
            <a:ext cx="3282840" cy="8571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tude de sit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Urb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81080" y="2133720"/>
            <a:ext cx="7388280" cy="3668760"/>
          </a:xfrm>
          <a:prstGeom prst="ellipse">
            <a:avLst/>
          </a:prstGeom>
          <a:gradFill rotWithShape="0">
            <a:gsLst>
              <a:gs pos="0">
                <a:srgbClr val="ffffae"/>
              </a:gs>
              <a:gs pos="50000">
                <a:srgbClr val="fefec5"/>
              </a:gs>
              <a:gs pos="100000">
                <a:srgbClr val="ffffa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11640" y="1496880"/>
            <a:ext cx="3059280" cy="143676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Cham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700" spc="-1" strike="noStrike">
                <a:solidFill>
                  <a:srgbClr val="000000"/>
                </a:solidFill>
                <a:latin typeface="Comic Sans MS"/>
              </a:rPr>
              <a:t>de dang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341440" y="3581280"/>
            <a:ext cx="2422800" cy="1376640"/>
            <a:chOff x="2341440" y="3581280"/>
            <a:chExt cx="2422800" cy="1376640"/>
          </a:xfrm>
        </p:grpSpPr>
        <p:sp>
          <p:nvSpPr>
            <p:cNvPr id="724" name=""/>
            <p:cNvSpPr/>
            <p:nvPr/>
          </p:nvSpPr>
          <p:spPr>
            <a:xfrm>
              <a:off x="2341440" y="3581280"/>
              <a:ext cx="2422800" cy="137664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7680" y="3714840"/>
              <a:ext cx="193032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Ecosystè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485040" y="3581280"/>
            <a:ext cx="2466720" cy="1376640"/>
            <a:chOff x="6485040" y="3581280"/>
            <a:chExt cx="2466720" cy="1376640"/>
          </a:xfrm>
        </p:grpSpPr>
        <p:sp>
          <p:nvSpPr>
            <p:cNvPr id="727" name=""/>
            <p:cNvSpPr/>
            <p:nvPr/>
          </p:nvSpPr>
          <p:spPr>
            <a:xfrm>
              <a:off x="6485040" y="3581280"/>
              <a:ext cx="2466720" cy="137664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3714840"/>
              <a:ext cx="1973520" cy="1111320"/>
            </a:xfrm>
            <a:prstGeom prst="ellipse">
              <a:avLst/>
            </a:prstGeom>
            <a:gradFill rotWithShape="0">
              <a:gsLst>
                <a:gs pos="0">
                  <a:srgbClr val="ffaa57"/>
                </a:gs>
                <a:gs pos="50000">
                  <a:srgbClr val="fedcbb"/>
                </a:gs>
                <a:gs pos="100000">
                  <a:srgbClr val="ffaa5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2689200" y="3181320"/>
            <a:ext cx="17416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48640" y="3181320"/>
            <a:ext cx="1739880" cy="69840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Systè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c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07360" y="3598920"/>
            <a:ext cx="1991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omic Sans MS"/>
              </a:rPr>
              <a:t>Flux de d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52920" y="3960720"/>
            <a:ext cx="2130480" cy="606600"/>
          </a:xfrm>
          <a:custGeom>
            <a:avLst/>
            <a:gdLst/>
            <a:ahLst/>
            <a:rect l="l" t="t" r="r" b="b"/>
            <a:pathLst>
              <a:path w="1342" h="382">
                <a:moveTo>
                  <a:pt x="1213" y="325"/>
                </a:moveTo>
                <a:lnTo>
                  <a:pt x="428" y="325"/>
                </a:lnTo>
                <a:lnTo>
                  <a:pt x="665" y="110"/>
                </a:lnTo>
                <a:lnTo>
                  <a:pt x="246" y="110"/>
                </a:lnTo>
                <a:lnTo>
                  <a:pt x="0" y="110"/>
                </a:lnTo>
                <a:lnTo>
                  <a:pt x="127" y="54"/>
                </a:lnTo>
                <a:lnTo>
                  <a:pt x="0" y="0"/>
                </a:lnTo>
                <a:lnTo>
                  <a:pt x="246" y="0"/>
                </a:lnTo>
                <a:lnTo>
                  <a:pt x="1031" y="0"/>
                </a:lnTo>
                <a:lnTo>
                  <a:pt x="793" y="213"/>
                </a:lnTo>
                <a:lnTo>
                  <a:pt x="1213" y="213"/>
                </a:lnTo>
                <a:lnTo>
                  <a:pt x="1213" y="157"/>
                </a:lnTo>
                <a:lnTo>
                  <a:pt x="1341" y="269"/>
                </a:lnTo>
                <a:lnTo>
                  <a:pt x="1213" y="381"/>
                </a:lnTo>
                <a:lnTo>
                  <a:pt x="1213" y="32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41920" y="6842160"/>
            <a:ext cx="7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82920" y="3759120"/>
            <a:ext cx="625680" cy="622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40600" y="4068720"/>
            <a:ext cx="60948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24480" y="437364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81360" y="449280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78560" y="4684680"/>
            <a:ext cx="11736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0" y="75"/>
                </a:moveTo>
                <a:lnTo>
                  <a:pt x="36" y="0"/>
                </a:lnTo>
                <a:lnTo>
                  <a:pt x="73" y="75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37240" y="4803840"/>
            <a:ext cx="0" cy="20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10240" y="3117960"/>
            <a:ext cx="363600" cy="311040"/>
          </a:xfrm>
          <a:custGeom>
            <a:avLst/>
            <a:gdLst/>
            <a:ahLst/>
            <a:rect l="l" t="t" r="r" b="b"/>
            <a:pathLst>
              <a:path w="229" h="196">
                <a:moveTo>
                  <a:pt x="109" y="195"/>
                </a:moveTo>
                <a:lnTo>
                  <a:pt x="0" y="0"/>
                </a:lnTo>
                <a:lnTo>
                  <a:pt x="228" y="0"/>
                </a:lnTo>
                <a:lnTo>
                  <a:pt x="109" y="195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572600" y="369720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00920" y="274788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219" y="214"/>
                </a:moveTo>
                <a:lnTo>
                  <a:pt x="146" y="0"/>
                </a:lnTo>
                <a:lnTo>
                  <a:pt x="0" y="176"/>
                </a:lnTo>
                <a:lnTo>
                  <a:pt x="219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3960" y="2747880"/>
            <a:ext cx="349200" cy="341280"/>
          </a:xfrm>
          <a:custGeom>
            <a:avLst/>
            <a:gdLst/>
            <a:ahLst/>
            <a:rect l="l" t="t" r="r" b="b"/>
            <a:pathLst>
              <a:path w="220" h="215">
                <a:moveTo>
                  <a:pt x="0" y="214"/>
                </a:moveTo>
                <a:lnTo>
                  <a:pt x="73" y="0"/>
                </a:lnTo>
                <a:lnTo>
                  <a:pt x="219" y="176"/>
                </a:lnTo>
                <a:lnTo>
                  <a:pt x="0" y="21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536880" y="6842160"/>
            <a:ext cx="87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901360" y="6629400"/>
            <a:ext cx="280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4800" y="6424560"/>
            <a:ext cx="3259080" cy="8478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Risque natu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ocessus de danger : écosystème - installation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228600" y="990720"/>
            <a:ext cx="10820520" cy="67690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1676520"/>
            <a:ext cx="3124080" cy="7110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écurité du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00240" y="2755800"/>
            <a:ext cx="7226280" cy="698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rgonomie, Analyse des Conditions de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70080" y="4000680"/>
            <a:ext cx="5210280" cy="698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Hygiène et Santé publ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8240" y="5156280"/>
            <a:ext cx="7386840" cy="698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Hygiène et Sécurité de l'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05320" y="6400800"/>
            <a:ext cx="4340160" cy="6094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cologie appliq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 ’analyse des Techniques du Danger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228600" y="1028880"/>
            <a:ext cx="10820520" cy="3238200"/>
          </a:xfrm>
          <a:custGeom>
            <a:avLst/>
            <a:gdLst/>
            <a:ahLst/>
            <a:rect l="l" t="t" r="r" b="b"/>
            <a:pathLst>
              <a:path w="6727" h="1868">
                <a:moveTo>
                  <a:pt x="0" y="0"/>
                </a:moveTo>
                <a:lnTo>
                  <a:pt x="6726" y="0"/>
                </a:lnTo>
                <a:lnTo>
                  <a:pt x="6726" y="1867"/>
                </a:lnTo>
                <a:lnTo>
                  <a:pt x="0" y="186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cap="rnd" w="12600">
            <a:solidFill>
              <a:srgbClr val="7f7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8600" y="4419720"/>
            <a:ext cx="10820520" cy="3324240"/>
          </a:xfrm>
          <a:custGeom>
            <a:avLst/>
            <a:gdLst/>
            <a:ahLst/>
            <a:rect l="l" t="t" r="r" b="b"/>
            <a:pathLst>
              <a:path w="6727" h="1854">
                <a:moveTo>
                  <a:pt x="0" y="0"/>
                </a:moveTo>
                <a:lnTo>
                  <a:pt x="6726" y="0"/>
                </a:lnTo>
                <a:lnTo>
                  <a:pt x="6726" y="1853"/>
                </a:lnTo>
                <a:lnTo>
                  <a:pt x="0" y="185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cap="rnd" w="12600">
            <a:solidFill>
              <a:srgbClr val="7f7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017720" y="1643040"/>
            <a:ext cx="2592360" cy="1731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t obje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449600" y="1643040"/>
            <a:ext cx="2513160" cy="1731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704000" y="1643040"/>
            <a:ext cx="2592360" cy="17319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92720" y="5797440"/>
            <a:ext cx="2395440" cy="17463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M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8120" y="5006880"/>
            <a:ext cx="5110200" cy="703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Méth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81520" y="5006880"/>
            <a:ext cx="5096160" cy="7034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rigine des out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chniques du Danger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228600" y="914400"/>
            <a:ext cx="10820520" cy="6858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82760" y="1060560"/>
            <a:ext cx="2333520" cy="9666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Dé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t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13200" y="1060560"/>
            <a:ext cx="7721640" cy="9666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7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iscipline qui étudie l ’aptitude du système de production à fonctionner sans porter atteinte à son environnement hu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2760" y="2133720"/>
            <a:ext cx="23079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13200" y="2136600"/>
            <a:ext cx="7721640" cy="97488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9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ysfonctionnement de l’installati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ccident et/ou maladies professionnelles des opérate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2760" y="3251160"/>
            <a:ext cx="2293920" cy="922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13200" y="3233880"/>
            <a:ext cx="7721640" cy="95076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9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entrée sur l’installation, technico-juridique et normativ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approche traditionnelle ; obligation de moye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approche systémique ; obligation de résul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040" y="6629400"/>
            <a:ext cx="23385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6629400"/>
            <a:ext cx="7628040" cy="97632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f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Installation, risque, danger, réglementation, normalis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bligation de résul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0040" y="4278240"/>
            <a:ext cx="4892760" cy="434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é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42000" y="4270320"/>
            <a:ext cx="5010120" cy="4302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rigine des 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0040" y="4807080"/>
            <a:ext cx="4892760" cy="17208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9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SAR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tude de sécu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56400" y="4786200"/>
            <a:ext cx="4995720" cy="175104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9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roit, norme, règles de l’art, ingénierie, mathématiques, et informatique,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écurité du travail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228600" y="914400"/>
            <a:ext cx="10820520" cy="6858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82760" y="1060560"/>
            <a:ext cx="2333520" cy="9666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Dé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t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013200" y="1060560"/>
            <a:ext cx="7721640" cy="9666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f1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iscipline qui analyse le travail humain pour l'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à l'homme, améliorer ses conditions de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t la qualité des prod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2760" y="2133720"/>
            <a:ext cx="23079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13200" y="2136600"/>
            <a:ext cx="7721640" cy="97488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f1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auvaises conditions de travail, astreinte, fat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s opérateurs, accidents dus à la fatig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ccident et/ou maladies dues à l'activité professionn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2760" y="3251160"/>
            <a:ext cx="2293920" cy="922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013200" y="3233880"/>
            <a:ext cx="7721640" cy="95076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f1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entrée sur l'activité de l'opérateur et sur 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onditions de cette activité, systém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ocio-technique et économique, non norm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0040" y="6629400"/>
            <a:ext cx="23385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6629400"/>
            <a:ext cx="7628040" cy="97632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f1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ctivité, tache, régulation de l'activité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ontrainte, astreinte, processus et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u travail, conception  et cor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0040" y="4278240"/>
            <a:ext cx="4892760" cy="434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é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42000" y="4270320"/>
            <a:ext cx="5010120" cy="4302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rigine des 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0040" y="4807080"/>
            <a:ext cx="4892760" cy="17208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f1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éthode ergonom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(de l'analyse de la dema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u diagnosti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56400" y="4786200"/>
            <a:ext cx="4995720" cy="175104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f1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sycholog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hysiolog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ingénier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ociologie des organis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rgonomi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8600" y="914400"/>
            <a:ext cx="10820520" cy="6858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2760" y="1060560"/>
            <a:ext cx="2333520" cy="9666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Dé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t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13200" y="1060560"/>
            <a:ext cx="7721640" cy="9666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f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rotéger les conditions de vie et la santé de la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2760" y="2133720"/>
            <a:ext cx="23079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013200" y="2136600"/>
            <a:ext cx="7721640" cy="97488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f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llution, nuisance, impact sur les populations humaines, incidents, accidents, catastrophes impliquant les pop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2760" y="3251160"/>
            <a:ext cx="2293920" cy="922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013200" y="3233880"/>
            <a:ext cx="7721640" cy="95076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f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nthropo-centrique, technico-juridique, normative, approche technique et médico-soci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0040" y="6629400"/>
            <a:ext cx="23385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629400"/>
            <a:ext cx="7628040" cy="97632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f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llution, réglementation, campagne d’inform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risques diffus, épuratio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00040" y="4278240"/>
            <a:ext cx="4892760" cy="434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é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742000" y="4270320"/>
            <a:ext cx="5010120" cy="4302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rigine des 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0040" y="4807080"/>
            <a:ext cx="4892760" cy="17208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f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tude d’impact sur les populations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épidémi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56400" y="4786200"/>
            <a:ext cx="4995720" cy="175104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f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icrobiologie, physico-chimie, toxicologie, mathématiques / statistiqu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giène et Santé publiques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990720"/>
            <a:ext cx="10820520" cy="6781680"/>
          </a:xfrm>
          <a:custGeom>
            <a:avLst/>
            <a:gdLst/>
            <a:ahLst/>
            <a:rect l="l" t="t" r="r" b="b"/>
            <a:pathLst>
              <a:path w="6727" h="3829">
                <a:moveTo>
                  <a:pt x="0" y="0"/>
                </a:moveTo>
                <a:lnTo>
                  <a:pt x="6726" y="0"/>
                </a:lnTo>
                <a:lnTo>
                  <a:pt x="6726" y="3828"/>
                </a:lnTo>
                <a:lnTo>
                  <a:pt x="0" y="382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cap="rnd" w="25560">
            <a:solidFill>
              <a:srgbClr val="7f7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560" y="1905120"/>
            <a:ext cx="4954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Science du dang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09560" y="6400800"/>
            <a:ext cx="32367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Systémiqu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3720" y="4016520"/>
            <a:ext cx="36986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Modèle</a:t>
            </a: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M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il conducteur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" name=""/>
          <p:cNvSpPr/>
          <p:nvPr/>
        </p:nvSpPr>
        <p:spPr>
          <a:xfrm>
            <a:off x="7340040" y="4016520"/>
            <a:ext cx="31669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Complexité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342680" y="2666880"/>
            <a:ext cx="2087640" cy="2624400"/>
          </a:xfrm>
          <a:custGeom>
            <a:avLst/>
            <a:gdLst/>
            <a:ahLst/>
            <a:rect l="l" t="t" r="r" b="b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266360" y="4597560"/>
            <a:ext cx="2770200" cy="1457280"/>
          </a:xfrm>
          <a:custGeom>
            <a:avLst/>
            <a:gdLst/>
            <a:ahLst/>
            <a:rect l="l" t="t" r="r" b="b"/>
            <a:pathLst>
              <a:path w="1745" h="918">
                <a:moveTo>
                  <a:pt x="877" y="907"/>
                </a:moveTo>
                <a:lnTo>
                  <a:pt x="895" y="904"/>
                </a:lnTo>
                <a:lnTo>
                  <a:pt x="919" y="900"/>
                </a:lnTo>
                <a:lnTo>
                  <a:pt x="943" y="895"/>
                </a:lnTo>
                <a:lnTo>
                  <a:pt x="960" y="891"/>
                </a:lnTo>
                <a:lnTo>
                  <a:pt x="980" y="886"/>
                </a:lnTo>
                <a:lnTo>
                  <a:pt x="1000" y="880"/>
                </a:lnTo>
                <a:lnTo>
                  <a:pt x="1020" y="875"/>
                </a:lnTo>
                <a:lnTo>
                  <a:pt x="1038" y="869"/>
                </a:lnTo>
                <a:lnTo>
                  <a:pt x="1058" y="861"/>
                </a:lnTo>
                <a:lnTo>
                  <a:pt x="1083" y="852"/>
                </a:lnTo>
                <a:lnTo>
                  <a:pt x="1104" y="843"/>
                </a:lnTo>
                <a:lnTo>
                  <a:pt x="1124" y="834"/>
                </a:lnTo>
                <a:lnTo>
                  <a:pt x="1147" y="824"/>
                </a:lnTo>
                <a:lnTo>
                  <a:pt x="1169" y="813"/>
                </a:lnTo>
                <a:lnTo>
                  <a:pt x="1189" y="803"/>
                </a:lnTo>
                <a:lnTo>
                  <a:pt x="1207" y="791"/>
                </a:lnTo>
                <a:lnTo>
                  <a:pt x="1224" y="781"/>
                </a:lnTo>
                <a:lnTo>
                  <a:pt x="1241" y="769"/>
                </a:lnTo>
                <a:lnTo>
                  <a:pt x="1260" y="758"/>
                </a:lnTo>
                <a:lnTo>
                  <a:pt x="1281" y="744"/>
                </a:lnTo>
                <a:lnTo>
                  <a:pt x="1300" y="730"/>
                </a:lnTo>
                <a:lnTo>
                  <a:pt x="1318" y="716"/>
                </a:lnTo>
                <a:lnTo>
                  <a:pt x="1334" y="704"/>
                </a:lnTo>
                <a:lnTo>
                  <a:pt x="1362" y="682"/>
                </a:lnTo>
                <a:lnTo>
                  <a:pt x="1387" y="660"/>
                </a:lnTo>
                <a:lnTo>
                  <a:pt x="1412" y="635"/>
                </a:lnTo>
                <a:lnTo>
                  <a:pt x="1438" y="606"/>
                </a:lnTo>
                <a:lnTo>
                  <a:pt x="1456" y="585"/>
                </a:lnTo>
                <a:lnTo>
                  <a:pt x="1476" y="561"/>
                </a:lnTo>
                <a:lnTo>
                  <a:pt x="1498" y="535"/>
                </a:lnTo>
                <a:lnTo>
                  <a:pt x="1517" y="509"/>
                </a:lnTo>
                <a:lnTo>
                  <a:pt x="1535" y="481"/>
                </a:lnTo>
                <a:lnTo>
                  <a:pt x="1557" y="449"/>
                </a:lnTo>
                <a:lnTo>
                  <a:pt x="1745" y="559"/>
                </a:lnTo>
                <a:lnTo>
                  <a:pt x="1561" y="0"/>
                </a:lnTo>
                <a:lnTo>
                  <a:pt x="964" y="106"/>
                </a:lnTo>
                <a:lnTo>
                  <a:pt x="1165" y="220"/>
                </a:lnTo>
                <a:lnTo>
                  <a:pt x="1148" y="244"/>
                </a:lnTo>
                <a:lnTo>
                  <a:pt x="1130" y="265"/>
                </a:lnTo>
                <a:lnTo>
                  <a:pt x="1112" y="286"/>
                </a:lnTo>
                <a:lnTo>
                  <a:pt x="1094" y="306"/>
                </a:lnTo>
                <a:lnTo>
                  <a:pt x="1079" y="321"/>
                </a:lnTo>
                <a:lnTo>
                  <a:pt x="1063" y="338"/>
                </a:lnTo>
                <a:lnTo>
                  <a:pt x="1045" y="352"/>
                </a:lnTo>
                <a:lnTo>
                  <a:pt x="1025" y="367"/>
                </a:lnTo>
                <a:lnTo>
                  <a:pt x="1001" y="383"/>
                </a:lnTo>
                <a:lnTo>
                  <a:pt x="981" y="396"/>
                </a:lnTo>
                <a:lnTo>
                  <a:pt x="964" y="406"/>
                </a:lnTo>
                <a:lnTo>
                  <a:pt x="939" y="420"/>
                </a:lnTo>
                <a:lnTo>
                  <a:pt x="917" y="429"/>
                </a:lnTo>
                <a:lnTo>
                  <a:pt x="898" y="435"/>
                </a:lnTo>
                <a:lnTo>
                  <a:pt x="878" y="442"/>
                </a:lnTo>
                <a:lnTo>
                  <a:pt x="849" y="450"/>
                </a:lnTo>
                <a:lnTo>
                  <a:pt x="820" y="454"/>
                </a:lnTo>
                <a:lnTo>
                  <a:pt x="791" y="457"/>
                </a:lnTo>
                <a:lnTo>
                  <a:pt x="748" y="459"/>
                </a:lnTo>
                <a:lnTo>
                  <a:pt x="692" y="460"/>
                </a:lnTo>
                <a:lnTo>
                  <a:pt x="649" y="454"/>
                </a:lnTo>
                <a:lnTo>
                  <a:pt x="610" y="445"/>
                </a:lnTo>
                <a:lnTo>
                  <a:pt x="565" y="432"/>
                </a:lnTo>
                <a:lnTo>
                  <a:pt x="525" y="415"/>
                </a:lnTo>
                <a:lnTo>
                  <a:pt x="485" y="395"/>
                </a:lnTo>
                <a:lnTo>
                  <a:pt x="449" y="372"/>
                </a:lnTo>
                <a:lnTo>
                  <a:pt x="414" y="341"/>
                </a:lnTo>
                <a:lnTo>
                  <a:pt x="0" y="580"/>
                </a:lnTo>
                <a:lnTo>
                  <a:pt x="17" y="600"/>
                </a:lnTo>
                <a:lnTo>
                  <a:pt x="41" y="623"/>
                </a:lnTo>
                <a:lnTo>
                  <a:pt x="61" y="643"/>
                </a:lnTo>
                <a:lnTo>
                  <a:pt x="81" y="662"/>
                </a:lnTo>
                <a:lnTo>
                  <a:pt x="101" y="681"/>
                </a:lnTo>
                <a:lnTo>
                  <a:pt x="125" y="701"/>
                </a:lnTo>
                <a:lnTo>
                  <a:pt x="147" y="718"/>
                </a:lnTo>
                <a:lnTo>
                  <a:pt x="169" y="734"/>
                </a:lnTo>
                <a:lnTo>
                  <a:pt x="194" y="750"/>
                </a:lnTo>
                <a:lnTo>
                  <a:pt x="218" y="767"/>
                </a:lnTo>
                <a:lnTo>
                  <a:pt x="243" y="783"/>
                </a:lnTo>
                <a:lnTo>
                  <a:pt x="266" y="796"/>
                </a:lnTo>
                <a:lnTo>
                  <a:pt x="289" y="809"/>
                </a:lnTo>
                <a:lnTo>
                  <a:pt x="311" y="820"/>
                </a:lnTo>
                <a:lnTo>
                  <a:pt x="341" y="834"/>
                </a:lnTo>
                <a:lnTo>
                  <a:pt x="369" y="846"/>
                </a:lnTo>
                <a:lnTo>
                  <a:pt x="401" y="858"/>
                </a:lnTo>
                <a:lnTo>
                  <a:pt x="425" y="867"/>
                </a:lnTo>
                <a:lnTo>
                  <a:pt x="448" y="876"/>
                </a:lnTo>
                <a:lnTo>
                  <a:pt x="475" y="884"/>
                </a:lnTo>
                <a:lnTo>
                  <a:pt x="501" y="891"/>
                </a:lnTo>
                <a:lnTo>
                  <a:pt x="527" y="897"/>
                </a:lnTo>
                <a:lnTo>
                  <a:pt x="557" y="903"/>
                </a:lnTo>
                <a:lnTo>
                  <a:pt x="587" y="908"/>
                </a:lnTo>
                <a:lnTo>
                  <a:pt x="618" y="912"/>
                </a:lnTo>
                <a:lnTo>
                  <a:pt x="650" y="915"/>
                </a:lnTo>
                <a:lnTo>
                  <a:pt x="674" y="916"/>
                </a:lnTo>
                <a:lnTo>
                  <a:pt x="707" y="918"/>
                </a:lnTo>
                <a:lnTo>
                  <a:pt x="740" y="918"/>
                </a:lnTo>
                <a:lnTo>
                  <a:pt x="766" y="917"/>
                </a:lnTo>
                <a:lnTo>
                  <a:pt x="794" y="916"/>
                </a:lnTo>
                <a:lnTo>
                  <a:pt x="825" y="914"/>
                </a:lnTo>
                <a:lnTo>
                  <a:pt x="853" y="910"/>
                </a:lnTo>
                <a:lnTo>
                  <a:pt x="877" y="907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09560" y="3019320"/>
            <a:ext cx="1405080" cy="2598840"/>
          </a:xfrm>
          <a:custGeom>
            <a:avLst/>
            <a:gdLst/>
            <a:ahLst/>
            <a:rect l="l" t="t" r="r" b="b"/>
            <a:pathLst>
              <a:path w="885" h="1637">
                <a:moveTo>
                  <a:pt x="885" y="0"/>
                </a:moveTo>
                <a:lnTo>
                  <a:pt x="866" y="3"/>
                </a:lnTo>
                <a:lnTo>
                  <a:pt x="847" y="6"/>
                </a:lnTo>
                <a:lnTo>
                  <a:pt x="821" y="12"/>
                </a:lnTo>
                <a:lnTo>
                  <a:pt x="802" y="16"/>
                </a:lnTo>
                <a:lnTo>
                  <a:pt x="782" y="22"/>
                </a:lnTo>
                <a:lnTo>
                  <a:pt x="763" y="28"/>
                </a:lnTo>
                <a:lnTo>
                  <a:pt x="743" y="33"/>
                </a:lnTo>
                <a:lnTo>
                  <a:pt x="724" y="39"/>
                </a:lnTo>
                <a:lnTo>
                  <a:pt x="704" y="47"/>
                </a:lnTo>
                <a:lnTo>
                  <a:pt x="680" y="56"/>
                </a:lnTo>
                <a:lnTo>
                  <a:pt x="660" y="65"/>
                </a:lnTo>
                <a:lnTo>
                  <a:pt x="639" y="74"/>
                </a:lnTo>
                <a:lnTo>
                  <a:pt x="617" y="84"/>
                </a:lnTo>
                <a:lnTo>
                  <a:pt x="595" y="95"/>
                </a:lnTo>
                <a:lnTo>
                  <a:pt x="575" y="105"/>
                </a:lnTo>
                <a:lnTo>
                  <a:pt x="556" y="117"/>
                </a:lnTo>
                <a:lnTo>
                  <a:pt x="539" y="127"/>
                </a:lnTo>
                <a:lnTo>
                  <a:pt x="522" y="139"/>
                </a:lnTo>
                <a:lnTo>
                  <a:pt x="503" y="150"/>
                </a:lnTo>
                <a:lnTo>
                  <a:pt x="482" y="164"/>
                </a:lnTo>
                <a:lnTo>
                  <a:pt x="463" y="179"/>
                </a:lnTo>
                <a:lnTo>
                  <a:pt x="445" y="193"/>
                </a:lnTo>
                <a:lnTo>
                  <a:pt x="428" y="205"/>
                </a:lnTo>
                <a:lnTo>
                  <a:pt x="400" y="228"/>
                </a:lnTo>
                <a:lnTo>
                  <a:pt x="372" y="255"/>
                </a:lnTo>
                <a:lnTo>
                  <a:pt x="350" y="275"/>
                </a:lnTo>
                <a:lnTo>
                  <a:pt x="324" y="304"/>
                </a:lnTo>
                <a:lnTo>
                  <a:pt x="306" y="325"/>
                </a:lnTo>
                <a:lnTo>
                  <a:pt x="286" y="349"/>
                </a:lnTo>
                <a:lnTo>
                  <a:pt x="264" y="376"/>
                </a:lnTo>
                <a:lnTo>
                  <a:pt x="246" y="401"/>
                </a:lnTo>
                <a:lnTo>
                  <a:pt x="228" y="430"/>
                </a:lnTo>
                <a:lnTo>
                  <a:pt x="210" y="458"/>
                </a:lnTo>
                <a:lnTo>
                  <a:pt x="192" y="488"/>
                </a:lnTo>
                <a:lnTo>
                  <a:pt x="177" y="514"/>
                </a:lnTo>
                <a:lnTo>
                  <a:pt x="163" y="546"/>
                </a:lnTo>
                <a:lnTo>
                  <a:pt x="149" y="577"/>
                </a:lnTo>
                <a:lnTo>
                  <a:pt x="137" y="609"/>
                </a:lnTo>
                <a:lnTo>
                  <a:pt x="125" y="644"/>
                </a:lnTo>
                <a:lnTo>
                  <a:pt x="110" y="687"/>
                </a:lnTo>
                <a:lnTo>
                  <a:pt x="100" y="727"/>
                </a:lnTo>
                <a:lnTo>
                  <a:pt x="90" y="768"/>
                </a:lnTo>
                <a:lnTo>
                  <a:pt x="85" y="808"/>
                </a:lnTo>
                <a:lnTo>
                  <a:pt x="78" y="855"/>
                </a:lnTo>
                <a:lnTo>
                  <a:pt x="73" y="913"/>
                </a:lnTo>
                <a:lnTo>
                  <a:pt x="72" y="959"/>
                </a:lnTo>
                <a:lnTo>
                  <a:pt x="73" y="1004"/>
                </a:lnTo>
                <a:lnTo>
                  <a:pt x="77" y="1047"/>
                </a:lnTo>
                <a:lnTo>
                  <a:pt x="82" y="1087"/>
                </a:lnTo>
                <a:lnTo>
                  <a:pt x="87" y="1129"/>
                </a:lnTo>
                <a:lnTo>
                  <a:pt x="96" y="1172"/>
                </a:lnTo>
                <a:lnTo>
                  <a:pt x="108" y="1218"/>
                </a:lnTo>
                <a:lnTo>
                  <a:pt x="123" y="1265"/>
                </a:lnTo>
                <a:lnTo>
                  <a:pt x="138" y="1309"/>
                </a:lnTo>
                <a:lnTo>
                  <a:pt x="155" y="1352"/>
                </a:lnTo>
                <a:lnTo>
                  <a:pt x="175" y="1394"/>
                </a:lnTo>
                <a:lnTo>
                  <a:pt x="199" y="1434"/>
                </a:lnTo>
                <a:lnTo>
                  <a:pt x="0" y="1547"/>
                </a:lnTo>
                <a:lnTo>
                  <a:pt x="607" y="1637"/>
                </a:lnTo>
                <a:lnTo>
                  <a:pt x="830" y="1079"/>
                </a:lnTo>
                <a:lnTo>
                  <a:pt x="597" y="1204"/>
                </a:lnTo>
                <a:lnTo>
                  <a:pt x="574" y="1168"/>
                </a:lnTo>
                <a:lnTo>
                  <a:pt x="560" y="1136"/>
                </a:lnTo>
                <a:lnTo>
                  <a:pt x="547" y="1103"/>
                </a:lnTo>
                <a:lnTo>
                  <a:pt x="538" y="1070"/>
                </a:lnTo>
                <a:lnTo>
                  <a:pt x="532" y="1038"/>
                </a:lnTo>
                <a:lnTo>
                  <a:pt x="530" y="1007"/>
                </a:lnTo>
                <a:lnTo>
                  <a:pt x="527" y="976"/>
                </a:lnTo>
                <a:lnTo>
                  <a:pt x="527" y="945"/>
                </a:lnTo>
                <a:lnTo>
                  <a:pt x="529" y="908"/>
                </a:lnTo>
                <a:lnTo>
                  <a:pt x="533" y="872"/>
                </a:lnTo>
                <a:lnTo>
                  <a:pt x="541" y="832"/>
                </a:lnTo>
                <a:lnTo>
                  <a:pt x="550" y="800"/>
                </a:lnTo>
                <a:lnTo>
                  <a:pt x="564" y="764"/>
                </a:lnTo>
                <a:lnTo>
                  <a:pt x="576" y="733"/>
                </a:lnTo>
                <a:lnTo>
                  <a:pt x="593" y="703"/>
                </a:lnTo>
                <a:lnTo>
                  <a:pt x="607" y="680"/>
                </a:lnTo>
                <a:lnTo>
                  <a:pt x="621" y="661"/>
                </a:lnTo>
                <a:lnTo>
                  <a:pt x="635" y="642"/>
                </a:lnTo>
                <a:lnTo>
                  <a:pt x="651" y="623"/>
                </a:lnTo>
                <a:lnTo>
                  <a:pt x="668" y="603"/>
                </a:lnTo>
                <a:lnTo>
                  <a:pt x="683" y="589"/>
                </a:lnTo>
                <a:lnTo>
                  <a:pt x="700" y="571"/>
                </a:lnTo>
                <a:lnTo>
                  <a:pt x="717" y="557"/>
                </a:lnTo>
                <a:lnTo>
                  <a:pt x="737" y="542"/>
                </a:lnTo>
                <a:lnTo>
                  <a:pt x="761" y="526"/>
                </a:lnTo>
                <a:lnTo>
                  <a:pt x="781" y="513"/>
                </a:lnTo>
                <a:lnTo>
                  <a:pt x="798" y="503"/>
                </a:lnTo>
                <a:lnTo>
                  <a:pt x="823" y="489"/>
                </a:lnTo>
                <a:lnTo>
                  <a:pt x="847" y="479"/>
                </a:lnTo>
                <a:lnTo>
                  <a:pt x="885" y="468"/>
                </a:lnTo>
                <a:lnTo>
                  <a:pt x="885" y="0"/>
                </a:lnTo>
                <a:close/>
              </a:path>
            </a:pathLst>
          </a:cu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2680" y="2666880"/>
            <a:ext cx="2087640" cy="2352960"/>
          </a:xfrm>
          <a:custGeom>
            <a:avLst/>
            <a:gdLst/>
            <a:ahLst/>
            <a:rect l="l" t="t" r="r" b="b"/>
            <a:pathLst>
              <a:path w="1315" h="1482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1"/>
                </a:lnTo>
                <a:lnTo>
                  <a:pt x="924" y="395"/>
                </a:lnTo>
                <a:lnTo>
                  <a:pt x="942" y="409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0"/>
                </a:lnTo>
                <a:lnTo>
                  <a:pt x="1315" y="1175"/>
                </a:lnTo>
                <a:lnTo>
                  <a:pt x="1314" y="1220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178" y="1214"/>
                </a:lnTo>
                <a:lnTo>
                  <a:pt x="850" y="1270"/>
                </a:lnTo>
                <a:lnTo>
                  <a:pt x="857" y="1223"/>
                </a:lnTo>
                <a:lnTo>
                  <a:pt x="860" y="1193"/>
                </a:lnTo>
                <a:lnTo>
                  <a:pt x="860" y="1161"/>
                </a:lnTo>
                <a:lnTo>
                  <a:pt x="858" y="1124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28600" y="914400"/>
            <a:ext cx="10820520" cy="6858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2760" y="1060560"/>
            <a:ext cx="2333520" cy="9666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Dé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t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94120" y="1060560"/>
            <a:ext cx="7721640" cy="9666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rotéger l’environnement des établissements hum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2760" y="2133720"/>
            <a:ext cx="23079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94120" y="2136600"/>
            <a:ext cx="7721640" cy="97488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llution, nuisance, incendie, explosion, incident, accident, catastrophe, effets directs sur les pop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u indirects via l ’écosystè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2760" y="3251160"/>
            <a:ext cx="2293920" cy="922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994120" y="3233880"/>
            <a:ext cx="7721640" cy="95076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entrée sur l’analyse de l’installation dangereu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nthropo-centrique, technico-juridique et norm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0040" y="6629400"/>
            <a:ext cx="23385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05000" y="6629400"/>
            <a:ext cx="7628040" cy="97632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Risque, danger, pollution, déchet, épur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risques majeurs et diffu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0040" y="4278240"/>
            <a:ext cx="4892760" cy="434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é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42000" y="4270320"/>
            <a:ext cx="5010120" cy="4302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rigine des 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0960" y="4807080"/>
            <a:ext cx="4892760" cy="17208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tude d’impact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étude de danger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écobi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37320" y="4786200"/>
            <a:ext cx="4995720" cy="175104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hysico-chimie, mathématiques, informatiqu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giène, Sécurité de l’environnement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28600" y="914400"/>
            <a:ext cx="10820520" cy="6858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cbcb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82760" y="1060560"/>
            <a:ext cx="2333520" cy="9666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Défi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t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13200" y="1060560"/>
            <a:ext cx="7721640" cy="9666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rotéger les conditions d’existence de tous les ê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vants (homme compr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82760" y="2133720"/>
            <a:ext cx="23079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013200" y="2136600"/>
            <a:ext cx="7721640" cy="97488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llution, nuisance, impact sur l’écosystème, incidents, accidents, catastrophes écolog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2760" y="3251160"/>
            <a:ext cx="2293920" cy="922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13200" y="3233880"/>
            <a:ext cx="7721640" cy="95076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entrée sur l’analyse de l’intéraction biotope - biocénose et sur les effets provoqués par la pollution sur cette interaction,naturo-centrique (l’homme est dans la natur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00040" y="6629400"/>
            <a:ext cx="2338560" cy="97632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6629400"/>
            <a:ext cx="7628040" cy="97632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llution, impact, stabilité, régulation de l’écosystè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00040" y="4278240"/>
            <a:ext cx="4892760" cy="43488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é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42000" y="4270320"/>
            <a:ext cx="5010120" cy="4302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791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rigine des 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0040" y="4807080"/>
            <a:ext cx="4892760" cy="172080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tude d’impact sur l ’écosystème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éthodes écol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756400" y="4786200"/>
            <a:ext cx="4995720" cy="1751040"/>
          </a:xfrm>
          <a:prstGeom prst="rect">
            <a:avLst/>
          </a:prstGeom>
          <a:gradFill rotWithShape="0">
            <a:gsLst>
              <a:gs pos="0">
                <a:srgbClr val="ffffa3"/>
              </a:gs>
              <a:gs pos="50000">
                <a:srgbClr val="fefed5"/>
              </a:gs>
              <a:gs pos="100000">
                <a:srgbClr val="ffffa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920" rIns="3492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hysico-chimie, biologie, écologie,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cologie appliqué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oblématique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1920" y="1571760"/>
            <a:ext cx="40842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3440" y="2665440"/>
            <a:ext cx="7855200" cy="30351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cb99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Science(s) du (des) danger(s)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Cindynique(s)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Préventique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Gestion de (des) risque(s)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0" y="6095880"/>
            <a:ext cx="8743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i="1" lang="fr-FR" sz="4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des nouveaux créneaux !…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5960" y="4614840"/>
            <a:ext cx="588960" cy="452520"/>
          </a:xfrm>
          <a:custGeom>
            <a:avLst/>
            <a:gdLst/>
            <a:ahLst/>
            <a:rect l="l" t="t" r="r" b="b"/>
            <a:pathLst>
              <a:path w="371" h="285">
                <a:moveTo>
                  <a:pt x="178" y="284"/>
                </a:moveTo>
                <a:lnTo>
                  <a:pt x="0" y="0"/>
                </a:lnTo>
                <a:lnTo>
                  <a:pt x="370" y="0"/>
                </a:lnTo>
                <a:lnTo>
                  <a:pt x="178" y="284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70120" y="1778040"/>
            <a:ext cx="5905440" cy="19429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6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cience du </a:t>
            </a:r>
            <a:r>
              <a:rPr b="1" lang="fr-FR" sz="36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0000" y="3111480"/>
            <a:ext cx="2425680" cy="12319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75120" y="5334120"/>
            <a:ext cx="3295800" cy="12319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édag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6440" y="5334120"/>
            <a:ext cx="3295440" cy="12319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ultu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5334120"/>
            <a:ext cx="3295800" cy="1231920"/>
          </a:xfrm>
          <a:prstGeom prst="ellipse">
            <a:avLst/>
          </a:prstGeom>
          <a:gradFill rotWithShape="0">
            <a:gsLst>
              <a:gs pos="0">
                <a:srgbClr val="ffaa57"/>
              </a:gs>
              <a:gs pos="50000">
                <a:srgbClr val="fed3aa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pérati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2360" y="4113360"/>
            <a:ext cx="531720" cy="525240"/>
          </a:xfrm>
          <a:custGeom>
            <a:avLst/>
            <a:gdLst/>
            <a:ahLst/>
            <a:rect l="l" t="t" r="r" b="b"/>
            <a:pathLst>
              <a:path w="335" h="331">
                <a:moveTo>
                  <a:pt x="0" y="330"/>
                </a:moveTo>
                <a:lnTo>
                  <a:pt x="72" y="0"/>
                </a:lnTo>
                <a:lnTo>
                  <a:pt x="334" y="267"/>
                </a:lnTo>
                <a:lnTo>
                  <a:pt x="0" y="330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30920" y="4113360"/>
            <a:ext cx="531720" cy="525240"/>
          </a:xfrm>
          <a:custGeom>
            <a:avLst/>
            <a:gdLst/>
            <a:ahLst/>
            <a:rect l="l" t="t" r="r" b="b"/>
            <a:pathLst>
              <a:path w="335" h="331">
                <a:moveTo>
                  <a:pt x="334" y="330"/>
                </a:moveTo>
                <a:lnTo>
                  <a:pt x="261" y="0"/>
                </a:lnTo>
                <a:lnTo>
                  <a:pt x="0" y="267"/>
                </a:lnTo>
                <a:lnTo>
                  <a:pt x="334" y="330"/>
                </a:lnTo>
              </a:path>
            </a:pathLst>
          </a:custGeom>
          <a:gradFill rotWithShape="0">
            <a:gsLst>
              <a:gs pos="0">
                <a:srgbClr val="007f00"/>
              </a:gs>
              <a:gs pos="50000">
                <a:srgbClr val="65b165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(s) - Technique(s)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95600" y="1387440"/>
            <a:ext cx="9372600" cy="6613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38880" y="5791320"/>
            <a:ext cx="2451240" cy="177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66"/>
                </a:solidFill>
                <a:latin typeface="Comic Sans MS"/>
              </a:rPr>
              <a:t>Sci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66"/>
                </a:solidFill>
                <a:latin typeface="Comic Sans MS"/>
              </a:rPr>
              <a:t>du Dang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762120"/>
            <a:ext cx="2264040" cy="1955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Techniqu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d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Dang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943600"/>
            <a:ext cx="2074680" cy="177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Discipl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appliqué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5840" y="1486080"/>
            <a:ext cx="2449440" cy="1955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Discipl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omic Sans MS"/>
              </a:rPr>
              <a:t>fondament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724280"/>
            <a:ext cx="182880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cc0000"/>
                </a:solidFill>
                <a:latin typeface="Comic Sans MS"/>
              </a:rPr>
              <a:t>3 couleu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685800"/>
            <a:ext cx="188604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cc0000"/>
                </a:solidFill>
                <a:latin typeface="Comic Sans MS"/>
              </a:rPr>
              <a:t>Détai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cc0000"/>
                </a:solidFill>
                <a:latin typeface="Comic Sans MS"/>
              </a:rPr>
              <a:t>coloré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67920" y="6835680"/>
            <a:ext cx="1300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cc0000"/>
                </a:solidFill>
                <a:latin typeface="Comic Sans MS"/>
              </a:rPr>
              <a:t>Scè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86280" y="1959120"/>
            <a:ext cx="1482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fr-FR" sz="2500" spc="-1" strike="noStrike">
                <a:solidFill>
                  <a:srgbClr val="cc0000"/>
                </a:solidFill>
                <a:latin typeface="Comic Sans MS"/>
              </a:rPr>
              <a:t>Tablea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968400"/>
            <a:ext cx="10820520" cy="680400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1b1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70280" y="1981080"/>
            <a:ext cx="712800" cy="7416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981080"/>
            <a:ext cx="5086440" cy="7416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Science du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064120" y="2862360"/>
            <a:ext cx="1495440" cy="384120"/>
            <a:chOff x="5064120" y="2862360"/>
            <a:chExt cx="1495440" cy="384120"/>
          </a:xfrm>
        </p:grpSpPr>
        <p:sp>
          <p:nvSpPr>
            <p:cNvPr id="91" name=""/>
            <p:cNvSpPr/>
            <p:nvPr/>
          </p:nvSpPr>
          <p:spPr>
            <a:xfrm>
              <a:off x="5064120" y="2862360"/>
              <a:ext cx="757440" cy="384120"/>
            </a:xfrm>
            <a:custGeom>
              <a:avLst/>
              <a:gdLst/>
              <a:ahLst/>
              <a:rect l="l" t="t" r="r" b="b"/>
              <a:pathLst>
                <a:path w="477" h="242">
                  <a:moveTo>
                    <a:pt x="0" y="0"/>
                  </a:moveTo>
                  <a:lnTo>
                    <a:pt x="476" y="0"/>
                  </a:lnTo>
                  <a:lnTo>
                    <a:pt x="238" y="24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9760" y="2862360"/>
              <a:ext cx="739800" cy="384120"/>
            </a:xfrm>
            <a:custGeom>
              <a:avLst/>
              <a:gdLst/>
              <a:ahLst/>
              <a:rect l="l" t="t" r="r" b="b"/>
              <a:pathLst>
                <a:path w="466" h="242">
                  <a:moveTo>
                    <a:pt x="0" y="241"/>
                  </a:moveTo>
                  <a:lnTo>
                    <a:pt x="465" y="241"/>
                  </a:lnTo>
                  <a:lnTo>
                    <a:pt x="228" y="0"/>
                  </a:lnTo>
                  <a:lnTo>
                    <a:pt x="0" y="241"/>
                  </a:lnTo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870280" y="3400560"/>
            <a:ext cx="712800" cy="725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400560"/>
            <a:ext cx="5086440" cy="72540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echniques du 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064120" y="4281480"/>
            <a:ext cx="1495440" cy="385920"/>
            <a:chOff x="5064120" y="4281480"/>
            <a:chExt cx="1495440" cy="385920"/>
          </a:xfrm>
        </p:grpSpPr>
        <p:sp>
          <p:nvSpPr>
            <p:cNvPr id="96" name=""/>
            <p:cNvSpPr/>
            <p:nvPr/>
          </p:nvSpPr>
          <p:spPr>
            <a:xfrm>
              <a:off x="5064120" y="4281480"/>
              <a:ext cx="757440" cy="385920"/>
            </a:xfrm>
            <a:custGeom>
              <a:avLst/>
              <a:gdLst/>
              <a:ahLst/>
              <a:rect l="l" t="t" r="r" b="b"/>
              <a:pathLst>
                <a:path w="477" h="243">
                  <a:moveTo>
                    <a:pt x="0" y="0"/>
                  </a:moveTo>
                  <a:lnTo>
                    <a:pt x="476" y="0"/>
                  </a:lnTo>
                  <a:lnTo>
                    <a:pt x="238" y="24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9760" y="4281480"/>
              <a:ext cx="739800" cy="385920"/>
            </a:xfrm>
            <a:custGeom>
              <a:avLst/>
              <a:gdLst/>
              <a:ahLst/>
              <a:rect l="l" t="t" r="r" b="b"/>
              <a:pathLst>
                <a:path w="466" h="243">
                  <a:moveTo>
                    <a:pt x="0" y="242"/>
                  </a:moveTo>
                  <a:lnTo>
                    <a:pt x="465" y="242"/>
                  </a:lnTo>
                  <a:lnTo>
                    <a:pt x="228" y="0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70280" y="4821120"/>
            <a:ext cx="712800" cy="72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821120"/>
            <a:ext cx="5086440" cy="72576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Disciplines appliqu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064120" y="5702400"/>
            <a:ext cx="1495440" cy="369720"/>
            <a:chOff x="5064120" y="5702400"/>
            <a:chExt cx="1495440" cy="369720"/>
          </a:xfrm>
        </p:grpSpPr>
        <p:sp>
          <p:nvSpPr>
            <p:cNvPr id="101" name=""/>
            <p:cNvSpPr/>
            <p:nvPr/>
          </p:nvSpPr>
          <p:spPr>
            <a:xfrm>
              <a:off x="5064120" y="5702400"/>
              <a:ext cx="757440" cy="369720"/>
            </a:xfrm>
            <a:custGeom>
              <a:avLst/>
              <a:gdLst/>
              <a:ahLst/>
              <a:rect l="l" t="t" r="r" b="b"/>
              <a:pathLst>
                <a:path w="477" h="233">
                  <a:moveTo>
                    <a:pt x="0" y="0"/>
                  </a:moveTo>
                  <a:lnTo>
                    <a:pt x="476" y="0"/>
                  </a:lnTo>
                  <a:lnTo>
                    <a:pt x="238" y="23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19760" y="5702400"/>
              <a:ext cx="739800" cy="369720"/>
            </a:xfrm>
            <a:custGeom>
              <a:avLst/>
              <a:gdLst/>
              <a:ahLst/>
              <a:rect l="l" t="t" r="r" b="b"/>
              <a:pathLst>
                <a:path w="466" h="233">
                  <a:moveTo>
                    <a:pt x="0" y="232"/>
                  </a:moveTo>
                  <a:lnTo>
                    <a:pt x="465" y="232"/>
                  </a:lnTo>
                  <a:lnTo>
                    <a:pt x="228" y="0"/>
                  </a:lnTo>
                  <a:lnTo>
                    <a:pt x="0" y="232"/>
                  </a:lnTo>
                </a:path>
              </a:pathLst>
            </a:custGeom>
            <a:gradFill rotWithShape="0">
              <a:gsLst>
                <a:gs pos="0">
                  <a:srgbClr val="007f00"/>
                </a:gs>
                <a:gs pos="50000">
                  <a:srgbClr val="65b165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870280" y="6224760"/>
            <a:ext cx="712800" cy="7412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41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6224760"/>
            <a:ext cx="5086440" cy="741240"/>
          </a:xfrm>
          <a:prstGeom prst="rect">
            <a:avLst/>
          </a:prstGeom>
          <a:gradFill rotWithShape="0">
            <a:gsLst>
              <a:gs pos="0">
                <a:srgbClr val="ffaa57"/>
              </a:gs>
              <a:gs pos="50000">
                <a:srgbClr val="fedcbb"/>
              </a:gs>
              <a:gs pos="100000">
                <a:srgbClr val="ffaa5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Disciplines fo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9372600" cy="609480"/>
          </a:xfrm>
          <a:prstGeom prst="rect">
            <a:avLst/>
          </a:prstGeom>
          <a:gradFill rotWithShape="0">
            <a:gsLst>
              <a:gs pos="0">
                <a:srgbClr val="7f7fff"/>
              </a:gs>
              <a:gs pos="50000">
                <a:srgbClr val="b4b4fe"/>
              </a:gs>
              <a:gs pos="100000">
                <a:srgbClr val="7f7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s - Techniques - Disciplines</a:t>
            </a:r>
            <a:endParaRPr b="1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12:23:18Z</dcterms:created>
  <dc:creator>IUT "A", Dépt HS</dc:creator>
  <dc:description/>
  <dc:language>en-US</dc:language>
  <cp:lastModifiedBy>michel lesbats</cp:lastModifiedBy>
  <dcterms:modified xsi:type="dcterms:W3CDTF">2004-03-13T17:17:22Z</dcterms:modified>
  <cp:revision>249</cp:revision>
  <dc:subject/>
  <dc:title>Aucun titre de diapositive</dc:title>
</cp:coreProperties>
</file>